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7138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3880"/>
              <a:gd name="textAreaBottom" fmla="*/ 9713520 h 9713880"/>
            </a:gdLst>
            <a:ahLst/>
            <a:rect l="textAreaLeft" t="textAreaTop" r="textAreaRight" b="textAreaBottom"/>
            <a:pathLst>
              <a:path w="21600" h="30594">
                <a:moveTo>
                  <a:pt x="5" y="0"/>
                </a:moveTo>
                <a:arcTo wR="5" hR="5" stAng="16200000" swAng="-5400000"/>
                <a:lnTo>
                  <a:pt x="0" y="30589"/>
                </a:lnTo>
                <a:arcTo wR="5" hR="5" stAng="10800000" swAng="-5400000"/>
                <a:lnTo>
                  <a:pt x="21595" y="3059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3"/>
          </p:nvPr>
        </p:nvSpPr>
        <p:spPr>
          <a:xfrm>
            <a:off x="3886200" y="-36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33720" cy="3619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036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4"/>
          </p:nvPr>
        </p:nvSpPr>
        <p:spPr>
          <a:xfrm>
            <a:off x="0" y="922464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5"/>
          </p:nvPr>
        </p:nvSpPr>
        <p:spPr>
          <a:xfrm>
            <a:off x="3886200" y="9224640"/>
            <a:ext cx="29462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FFBC0-DE3F-4EC2-9ECE-ADA355EBD8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09800" y="728640"/>
            <a:ext cx="4836960" cy="364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00080" y="728640"/>
            <a:ext cx="48592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614840"/>
            <a:ext cx="49975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614480"/>
            <a:ext cx="5022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8640" y="728640"/>
            <a:ext cx="4857480" cy="3643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28640"/>
            <a:ext cx="500040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603680"/>
            <a:ext cx="5010120" cy="440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8640" y="728640"/>
            <a:ext cx="4856040" cy="3641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613400"/>
            <a:ext cx="50101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8B5A-52BC-47F5-B908-C1971BF94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520884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DB60-1193-4D8B-9125-D3B923E8B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624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B177-9DBC-40C7-B175-0FB057FC4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588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25600" y="175248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588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25600" y="5208840"/>
            <a:ext cx="249480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2871-3303-4062-AD86-DFAFAE03E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0D1D-F681-4CB7-8410-929CFB7F11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051F-B5AD-4763-B035-8599DADE0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F2BF-2AEA-43F6-AE05-72241E1B1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A68E-163B-472D-B2DE-E101C68E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6160"/>
            <a:ext cx="774864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1336-7FA9-4F2A-8886-6BA59FBC4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2BF8-F9AA-44D5-9A5B-F39E1F860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6240" y="520884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C1D7-89A2-4C33-8982-97897C90F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6240" y="1752480"/>
            <a:ext cx="378108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5208840"/>
            <a:ext cx="774864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AE49-05E8-4224-9165-6EA424489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6160"/>
            <a:ext cx="77486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4864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46240" y="6248520"/>
            <a:ext cx="11966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D310D-38CC-4592-AA44-B162ADA73F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1981080"/>
            <a:ext cx="74674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43200" y="29192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219320"/>
            <a:ext cx="7696080" cy="75960"/>
          </a:xfrm>
          <a:prstGeom prst="rect">
            <a:avLst/>
          </a:prstGeom>
          <a:solidFill>
            <a:srgbClr val="000000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0160" y="2933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391520" y="5867280"/>
            <a:ext cx="1295280" cy="744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76212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0256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07640" y="5202000"/>
            <a:ext cx="34196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  <a:ea typeface="Lucida Sans Unicode"/>
              </a:rPr>
              <a:t>Bernd Faa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946160"/>
            <a:ext cx="3962520" cy="23209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HECK-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ER L’ES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1952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LIFIC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rovata da 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rovata da mansioni svolt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dealmente almeno 2 anni di esperienz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upportata da referenz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resentata secondo gli standard del mercato este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BBD9-243C-46DB-BA45-8342DAF4B8F3}" type="slidenum">
              <a:t>10</a:t>
            </a:fld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Età - Sess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19280"/>
            <a:ext cx="777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Stage: durante o dopo la 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voro non qualificato: fino a 30 ann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Lavoro qualificato: fino a 40 ann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Emigrazione extra: da 30 anni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1001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Donne: soglia dei 30 anni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7348680" y="-301680"/>
            <a:ext cx="45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6920" y="3311640"/>
            <a:ext cx="19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6FB6-80CA-4431-9693-63B4D7CE4217}" type="slidenum">
              <a:t>11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493560"/>
            <a:ext cx="828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NOSCENZA DEL MONDO DEL LAVORO</a:t>
            </a:r>
            <a:endParaRPr b="1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Informarsi su elementi del diritto del lavoro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retribuzione, benefit, contratti ecc.)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noscere le modalità d’accesso al mercat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6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Padroneggiare le modalità di candidatura e di colloqui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2A93-7AB4-4307-AA41-A4812F53417F}" type="slidenum">
              <a:t>12</a:t>
            </a:fld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384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774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Oltre 50% dei lavori (e di stage) si trova tramite conttati. Oggi si deve sfruttare le comunità virtuali di social / business networking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facebook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xing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www.linkedin.co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itstream Vera Sans"/>
              </a:rPr>
              <a:t>Siti e forum di “Italiani a .....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2A90-2194-40FE-AB62-04E88AEB3F8A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ISPONIBILITA’ ECONOMICA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19200"/>
            <a:ext cx="77709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77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itstream Vera Sans"/>
                <a:ea typeface="Arial"/>
              </a:rPr>
              <a:t>Spesa da programmare per il 1. mese in una grande città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131920"/>
            <a:ext cx="532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ggio (volo e treno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di trasporto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t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per la ricerca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pese per abbigliament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7520" indent="-3175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mprev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752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17520"/>
                <a:tab algn="l" pos="765000"/>
                <a:tab algn="l" pos="1214280"/>
                <a:tab algn="l" pos="1663560"/>
                <a:tab algn="l" pos="2112840"/>
                <a:tab algn="l" pos="2562120"/>
                <a:tab algn="l" pos="3011400"/>
                <a:tab algn="l" pos="3460680"/>
                <a:tab algn="l" pos="3909960"/>
                <a:tab algn="l" pos="4359240"/>
                <a:tab algn="l" pos="4808520"/>
                <a:tab algn="l" pos="5257800"/>
                <a:tab algn="l" pos="5707080"/>
                <a:tab algn="l" pos="6156360"/>
                <a:tab algn="l" pos="6605640"/>
                <a:tab algn="l" pos="7054920"/>
                <a:tab algn="l" pos="7504200"/>
                <a:tab algn="l" pos="7953480"/>
                <a:tab algn="l" pos="8402760"/>
                <a:tab algn="l" pos="8852040"/>
                <a:tab algn="l" pos="9301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Tot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1771560"/>
            <a:ext cx="316692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€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,00-300,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00,00-8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15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1716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34800"/>
                <a:tab algn="l" pos="419040"/>
                <a:tab algn="l" pos="868320"/>
                <a:tab algn="l" pos="1317600"/>
                <a:tab algn="l" pos="1766880"/>
                <a:tab algn="l" pos="2216160"/>
                <a:tab algn="l" pos="2665440"/>
                <a:tab algn="l" pos="3114720"/>
                <a:tab algn="l" pos="3564000"/>
                <a:tab algn="l" pos="4013280"/>
                <a:tab algn="l" pos="4462560"/>
                <a:tab algn="l" pos="4911840"/>
                <a:tab algn="l" pos="5364000"/>
                <a:tab algn="l" pos="5821200"/>
                <a:tab algn="l" pos="6278400"/>
                <a:tab algn="l" pos="6708600"/>
                <a:tab algn="l" pos="7157880"/>
                <a:tab algn="l" pos="7607160"/>
                <a:tab algn="l" pos="8056440"/>
                <a:tab algn="l" pos="8505720"/>
                <a:tab algn="l" pos="8955000"/>
                <a:tab algn="l" pos="8958240"/>
                <a:tab algn="l" pos="9407520"/>
                <a:tab algn="l" pos="9856800"/>
                <a:tab algn="l" pos="10306080"/>
                <a:tab algn="l" pos="1075536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1.350,00 -2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408640"/>
            <a:ext cx="8424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18960">
              <a:lnSpc>
                <a:spcPct val="77000"/>
              </a:lnSpc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(+ eventuale cauzione + eventuale commissione agenzia immobiliare)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33B8-A347-4129-8A6A-2D4BDDDBD6D2}" type="slidenum">
              <a:t>14</a:t>
            </a:fld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90440"/>
            <a:ext cx="7767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TEMPI DI ATTUAZIONE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7720" cy="53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Organizazioni Int.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ONG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grande aziend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Stage azienda media/piccol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-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artigia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2-4 settim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nei servizi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2-4 settima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in uffici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1-3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avoro da laureat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3-6 mesi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0">
              <a:lnSpc>
                <a:spcPct val="114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2228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5800"/>
                <a:tab algn="l" pos="5823000"/>
                <a:tab algn="l" pos="628020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8961480"/>
                <a:tab algn="l" pos="9410760"/>
                <a:tab algn="l" pos="9860040"/>
                <a:tab algn="l" pos="10309320"/>
                <a:tab algn="l" pos="10758600"/>
                <a:tab algn="l" pos="10761840"/>
                <a:tab algn="l" pos="10764720"/>
                <a:tab algn="l" pos="10766520"/>
                <a:tab algn="l" pos="10767960"/>
                <a:tab algn="l" pos="10769760"/>
                <a:tab algn="l" pos="1077120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363680" y="5526000"/>
            <a:ext cx="976320" cy="486000"/>
          </a:xfrm>
          <a:prstGeom prst="rightArrow">
            <a:avLst>
              <a:gd name="adj1" fmla="val 28204"/>
              <a:gd name="adj2" fmla="val 41545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295960"/>
            <a:ext cx="3959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iù alta la qual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iù tempo serve per inseri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6ECB-25FC-41B2-8E34-2FEEF853EFE0}" type="slidenum">
              <a:t>15</a:t>
            </a:fld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PREPARAZIONE INTERCULTURALE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Usi e costumi del paese in quest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mportamento e abitudine delle persone locali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3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lazioni nell’ambito di lavor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Bitstream Vera Sans"/>
              </a:rPr>
              <a:t>integrarsi senza rischiare gaffe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876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ED47-9105-42CE-8BD9-D2BE305F2334}" type="slidenum">
              <a:t>16</a:t>
            </a:fld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ANDIDATURA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/ 1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341360"/>
            <a:ext cx="85215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V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secondo lo standard del paese / CV europe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OLLOQUIO SUL POSTO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6163"/>
              </a:lnSpc>
              <a:spcBef>
                <a:spcPts val="1225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RICONOSCIMENTO DEL TITOLO DI STUDIO ED ABILITAZIONE 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(p.e. sanità, scuola, ingegneria)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0760" indent="0">
              <a:lnSpc>
                <a:spcPct val="150000"/>
              </a:lnSpc>
              <a:spcBef>
                <a:spcPts val="1225"/>
              </a:spcBef>
              <a:spcAft>
                <a:spcPts val="850"/>
              </a:spcAft>
              <a:buNone/>
              <a:tabLst>
                <a:tab algn="l" pos="0"/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8AE8-BC7D-4CFC-BA23-5ED37BB7696B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ANDIDATURA</a:t>
            </a: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 / 2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0360" y="1692360"/>
            <a:ext cx="8521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Dall’Italia: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istema EURES - </a:t>
            </a:r>
            <a:r>
              <a:rPr b="1" lang="en-GB" sz="1800" spc="-1" strike="noStrike">
                <a:solidFill>
                  <a:srgbClr val="000000"/>
                </a:solidFill>
                <a:latin typeface="Bitstream Vera Sans"/>
              </a:rPr>
              <a:t>ufficio di collocamento europeo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genzia di reclutamento priv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zienda su annunci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Bitstream Vera Sans"/>
              </a:rPr>
              <a:t>successo limitat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ul posto: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servizi nazionali per l’impiego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genzia di reclutamento privat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1200" indent="-31572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Bitstream Vera Sans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all’azienda su annuncio oppure spontane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30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Bitstream Vera Sans"/>
              </a:rPr>
              <a:t>successo maggior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1260360" y="3294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634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0E88-0042-4F5E-9EB6-639DE4DFF7EA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DRO LEGAL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84247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arta d’identità o passaporto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validi almeno 6 mesi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Iscrizione all’anagrafe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arta di soggiorno dopo 3 mesi (UK 6 mesi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essera sanitaria europea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(UE)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asse e contributi secondo paese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15720" indent="-31572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Riconoscimento dei contributi pensionistici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BCC4-1FFB-4185-8287-88A2EAAEB170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NEFICI GENERALI  /1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6776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INGUA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collaudata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RESCITA PERSONALE 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(autonomia, proattività, flessibilità, adattabilità)</a:t>
            </a: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90000"/>
              </a:lnSpc>
              <a:spcBef>
                <a:spcPts val="1451"/>
              </a:spcBef>
              <a:spcAft>
                <a:spcPts val="1426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COMPETENZA INTERCULTURAL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447920"/>
            <a:ext cx="79250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19D2-A6F1-4531-A721-261FE0752EA5}" type="slidenum">
              <a:t>2</a:t>
            </a:fld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DIFFICOLTA’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2105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aspettative eccessive o inadegua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arco di tempo sbaglia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nostalgi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straniero = maggiore impegno e dedi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preparazione insufficient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ct val="170000"/>
              </a:lnSpc>
              <a:spcBef>
                <a:spcPts val="150"/>
              </a:spcBef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grande concorre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C7CE-4584-4B9B-933F-2CA2A5C38FE3}" type="slidenum">
              <a:t>20</a:t>
            </a:fld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ALTERNATIV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250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70000"/>
              </a:lnSpc>
              <a:spcBef>
                <a:spcPts val="15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Lavoro qualificato non è sempre la soluzione adeguata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70000"/>
              </a:lnSpc>
              <a:spcBef>
                <a:spcPts val="15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Verificare le alternativ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volontariat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680">
              <a:lnSpc>
                <a:spcPct val="170000"/>
              </a:lnSpc>
              <a:spcBef>
                <a:spcPts val="850"/>
              </a:spcBef>
              <a:spcAft>
                <a:spcPts val="1137"/>
              </a:spcAft>
              <a:buClr>
                <a:srgbClr val="000000"/>
              </a:buClr>
              <a:buFont typeface="Bitstream Vera Sans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  <a:ea typeface="Times New Roman"/>
              </a:rPr>
              <a:t>formazion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3E80-808B-40EC-A657-70D2997FC748}" type="slidenum">
              <a:t>21</a:t>
            </a:fld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94920"/>
            <a:ext cx="7767720" cy="887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32" name=""/>
          <p:cNvSpPr/>
          <p:nvPr/>
        </p:nvSpPr>
        <p:spPr>
          <a:xfrm>
            <a:off x="804960" y="2486160"/>
            <a:ext cx="204768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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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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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2560" y="2486160"/>
            <a:ext cx="292572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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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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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4360" y="1542960"/>
            <a:ext cx="6335640" cy="5144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’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0" y="2486160"/>
            <a:ext cx="2027160" cy="2144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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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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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3160" y="5746680"/>
            <a:ext cx="429552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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5600" y="4873680"/>
            <a:ext cx="237168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80000" y="4859280"/>
            <a:ext cx="1832040" cy="7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A76A-2B5F-464E-9954-50F88F5EAD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Bitstream Vera Sans"/>
              </a:rPr>
              <a:t>Grazie per l’attenzione.</a:t>
            </a:r>
            <a:endParaRPr b="1" lang="en-US" sz="37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30000"/>
              </a:lnSpc>
              <a:spcBef>
                <a:spcPts val="924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Bernd Faas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urocultur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a Mercato Nuovo 44 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36100 Vicenza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Tel. 0444-964770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Info@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www.eurocultura.i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952720"/>
            <a:ext cx="411480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9114-A247-4622-AB77-53BF73B61939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9246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NEFICI GENERALI /2 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720" y="16192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RRIERA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chiarezza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RESCITA PROFESSIONALE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competenz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ARRICHIMENTO CV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18960" indent="-318960">
              <a:lnSpc>
                <a:spcPts val="5888"/>
              </a:lnSpc>
              <a:spcBef>
                <a:spcPts val="1162"/>
              </a:spcBef>
              <a:spcAft>
                <a:spcPts val="850"/>
              </a:spcAft>
              <a:buClr>
                <a:srgbClr val="000000"/>
              </a:buClr>
              <a:buFont typeface="Bitstream Vera Sans"/>
              <a:buChar char="•"/>
              <a:tabLst>
                <a:tab algn="l" pos="318960"/>
                <a:tab algn="l" pos="4237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STIPENDIO</a:t>
            </a: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 più elevat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6A17-ECA2-4D5D-950F-B456234E90D1}" type="slidenum">
              <a:t>3</a:t>
            </a:fld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CHECK-UP per L'ESTERO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05840" cy="44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Lingu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Qualif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Età - Sess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noscenza del mondo del lavoro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Disponibilità economic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empi di attuazio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1774440" indent="-1026360">
              <a:lnSpc>
                <a:spcPct val="127000"/>
              </a:lnSpc>
              <a:spcBef>
                <a:spcPts val="700"/>
              </a:spcBef>
              <a:buClr>
                <a:srgbClr val="000000"/>
              </a:buClr>
              <a:buFont typeface="Bitstream Vera Sans"/>
              <a:buAutoNum type="arabicPeriod"/>
              <a:tabLst>
                <a:tab algn="l" pos="1792440"/>
                <a:tab algn="l" pos="1979640"/>
                <a:tab algn="l" pos="2428920"/>
                <a:tab algn="l" pos="2878200"/>
                <a:tab algn="l" pos="3327480"/>
                <a:tab algn="l" pos="3776760"/>
                <a:tab algn="l" pos="4226040"/>
                <a:tab algn="l" pos="4675320"/>
                <a:tab algn="l" pos="5124600"/>
                <a:tab algn="l" pos="5573880"/>
                <a:tab algn="l" pos="6022800"/>
                <a:tab algn="l" pos="6472080"/>
                <a:tab algn="l" pos="6921360"/>
                <a:tab algn="l" pos="7370640"/>
                <a:tab algn="l" pos="7819920"/>
                <a:tab algn="l" pos="8269200"/>
                <a:tab algn="l" pos="8718480"/>
                <a:tab algn="l" pos="9167760"/>
                <a:tab algn="l" pos="9617040"/>
                <a:tab algn="l" pos="1006632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eparazione intercultura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1144-1641-4A23-BDF0-39E0DF540326}" type="slidenum">
              <a:t>4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LINGUA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itstream Vera Sans"/>
              </a:rPr>
              <a:t>Regola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9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5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sufficiente per svolgere l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57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mansione prevista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C1C2-9360-4FB4-81B2-4C98E6806E96}" type="slidenum">
              <a:t>5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0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6600" indent="0" algn="ctr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itstream Vera Sans"/>
              </a:rPr>
              <a:t>Quadro europeo delle lingue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Livello B1 = sogli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È in grado di comprendere 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unti essenzial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di messaggi chiari in lingua standard su argomenti familiari che affronta normalmente al lavoro, a scuola, nel tempo libero, ecc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Se la cava in molte situazion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che si possono presentare viaggiando in una regione dove si parla la lingua in question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Sa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produrre testi semplici e coerent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su argomenti che gli siano familiari o siano di suo interess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876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È in grado di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</a:rPr>
              <a:t>descrivere esperienze e avveniment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, sogni, speranze, ambizioni, di esporre brevemente ragioni e dare spiegazioni su opinioni e progetti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28A5-68DF-4C5B-85A1-BF5D020A94FD}" type="slidenum">
              <a:t>6</a:t>
            </a:fld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Esempio: livello B1 nel posto di lavoro</a:t>
            </a:r>
            <a:r>
              <a:rPr b="0" lang="en-GB" sz="32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1054080"/>
            <a:ext cx="5616720" cy="107964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laborare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/ </a:t>
            </a:r>
            <a:r>
              <a:rPr b="0" i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trattare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informazioni est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- utente indipendent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SCOL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100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EG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349360"/>
            <a:ext cx="208764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PAR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88320" y="2349360"/>
            <a:ext cx="2003400" cy="4320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CRIV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00" y="2819520"/>
            <a:ext cx="2087280" cy="27432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ccogl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inform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all’amb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avorativ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21000" y="2819520"/>
            <a:ext cx="2087640" cy="289548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apire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ettere standar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ccogliere i tes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tandard (informazi-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ni sui proces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avorativi 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escri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i prodotto)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819520"/>
            <a:ext cx="2089440" cy="325116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are inform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ull’attività/uffici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zienda/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 le procedur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olloqui pers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 al telefono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aggiung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ecisioni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accordi sul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di strut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linguis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familiar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2819520"/>
            <a:ext cx="1984320" cy="2971800"/>
          </a:xfrm>
          <a:prstGeom prst="rect">
            <a:avLst/>
          </a:prstGeom>
          <a:solidFill>
            <a:srgbClr val="ccff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Redigere richiest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offerte standard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Scrivere testi pi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brevi su te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familiari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eventualmente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comment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  <a:ea typeface="DejaVu Sans"/>
              </a:rPr>
              <a:t>grafici semp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C050-108B-4FE4-AD19-E176010927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Lingua per personale qualificato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itstream Vera Sans"/>
              </a:rPr>
              <a:t>Livello C1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(Effective Operational Mastery)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È in grado di comprendere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un'ampia gamma di testi compless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e piuttosto lunghi e ne sa ricavare anche il significato implicito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i esprime in modo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correvole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e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pontaneo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, senza un eccessivo sforzo per cercare le parol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Usa la lingua in modo </a:t>
            </a: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flessibile ed efficace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 per scopi sociali, accademici e professionali.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34800" indent="-318960" algn="just">
              <a:lnSpc>
                <a:spcPct val="135000"/>
              </a:lnSpc>
              <a:spcBef>
                <a:spcPts val="1125"/>
              </a:spcBef>
              <a:buClr>
                <a:srgbClr val="000000"/>
              </a:buClr>
              <a:buFont typeface="Century Schoolbook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Sa produrre testi chiari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DejaVu Sans"/>
              </a:rPr>
              <a:t>, ben strutturati e articolati su argomenti complessi, mostrando di saper controllare le strutture discorsive, I connettivi e i meccanismi di coesione.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E1C8-D7A6-490D-B282-46A487B68B48}" type="slidenum">
              <a:t>8</a:t>
            </a:fld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09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ESAMI RICONOSCIUTI</a:t>
            </a:r>
            <a:endParaRPr b="1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generali</a:t>
            </a: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CAMBRIDGE – IELTS - TOEF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GOETHE  - TestDa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E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1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itstream Vera Sans"/>
              </a:rPr>
              <a:t>DELF – DALF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>
              <a:lnSpc>
                <a:spcPct val="13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Bitstream Vera Sans"/>
              </a:rPr>
              <a:t>specifici</a:t>
            </a:r>
            <a:r>
              <a:rPr b="1" i="1" lang="en-GB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6600" indent="0" algn="ctr">
              <a:lnSpc>
                <a:spcPct val="175000"/>
              </a:lnSpc>
              <a:spcBef>
                <a:spcPts val="876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itstream Vera Sans"/>
              </a:rPr>
              <a:t>BEC – CCIP - Wirtschaftsdeutsch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D830-5048-4E51-B19C-8878061270B1}" type="slidenum">
              <a:t>9</a:t>
            </a:fld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rnd Faas</dc:creator>
  <dc:description/>
  <dc:language>en-US</dc:language>
  <cp:lastModifiedBy>Faas Bernd</cp:lastModifiedBy>
  <cp:lastPrinted>2013-01-20T01:15:50Z</cp:lastPrinted>
  <cp:revision>0</cp:revision>
  <dc:subject/>
  <dc:title>Fare carriera all´estero</dc:title>
</cp:coreProperties>
</file>