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9712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712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71244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715680" cy="685656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715680" cy="685656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734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3"/>
          </p:nvPr>
        </p:nvSpPr>
        <p:spPr>
          <a:xfrm>
            <a:off x="5503680" y="0"/>
            <a:ext cx="41749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399120" cy="25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1295280" y="3257640"/>
            <a:ext cx="70884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4"/>
          </p:nvPr>
        </p:nvSpPr>
        <p:spPr>
          <a:xfrm>
            <a:off x="-360" y="6512040"/>
            <a:ext cx="41734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5"/>
          </p:nvPr>
        </p:nvSpPr>
        <p:spPr>
          <a:xfrm>
            <a:off x="5503680" y="6512040"/>
            <a:ext cx="417492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DF0A9-FBD0-4E87-A4A4-A5E8FF241E0F}" type="slidenum"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139920" y="514440"/>
            <a:ext cx="342612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1295280" y="3257640"/>
            <a:ext cx="7113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39920" y="514440"/>
            <a:ext cx="342612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139920" y="514440"/>
            <a:ext cx="342612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139920" y="514440"/>
            <a:ext cx="342612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3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139920" y="514440"/>
            <a:ext cx="342612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139920" y="514440"/>
            <a:ext cx="342612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139920" y="514440"/>
            <a:ext cx="342612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000080" y="728640"/>
            <a:ext cx="485928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50227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50227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295280" y="3257640"/>
            <a:ext cx="711360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139920" y="514440"/>
            <a:ext cx="342612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08240" y="514440"/>
            <a:ext cx="709740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1294920" y="3257280"/>
            <a:ext cx="70945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399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0B8E6-BC97-4022-B476-DA08208E8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3892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440" y="4559400"/>
            <a:ext cx="773892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76D9A-ED6B-4F9A-8F1E-E68F93153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764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200" y="1371240"/>
            <a:ext cx="37764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4559400"/>
            <a:ext cx="37764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200" y="4559400"/>
            <a:ext cx="37764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8101A-C8AF-4977-9E0B-C8CF4C5EF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249156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01920" y="1371240"/>
            <a:ext cx="249156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8400" y="1371240"/>
            <a:ext cx="249156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440" y="4559400"/>
            <a:ext cx="249156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01920" y="4559400"/>
            <a:ext cx="249156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8400" y="4559400"/>
            <a:ext cx="249156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1964A-0EEF-4E03-99DA-AD7854F36C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773892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FB798-5D03-4DDD-B2FC-823EA60794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3892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28E7D-2832-4064-A939-5779F4C45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76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200" y="1371240"/>
            <a:ext cx="3776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2B556-F66E-4613-BF59-17282B1E5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43311-DF60-4FA2-9BC2-1455402EB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440" y="108000"/>
            <a:ext cx="773892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EB020-C369-4F56-8F1E-EFD194C17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764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200" y="1371240"/>
            <a:ext cx="3776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4559400"/>
            <a:ext cx="37764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CE4C9-F799-4A86-997A-51E82BA3D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76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200" y="1371240"/>
            <a:ext cx="37764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200" y="4559400"/>
            <a:ext cx="37764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A1ABB-CC26-468D-BF65-B4E77A5E5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764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200" y="1371240"/>
            <a:ext cx="377640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559400"/>
            <a:ext cx="773892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2A787-048C-4E33-85A7-4A30DF309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0800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371240"/>
            <a:ext cx="773892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6236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98160" y="6248160"/>
            <a:ext cx="55548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6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D34E8-5072-4674-9B76-732872F19B0F}" type="slidenum"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1981080"/>
            <a:ext cx="74674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192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458120" y="5940360"/>
            <a:ext cx="1181160" cy="585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85800" y="1295280"/>
            <a:ext cx="77724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360360" y="360360"/>
          <a:ext cx="90000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0360" y="360360"/>
                    <a:ext cx="900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1920"/>
            <a:ext cx="776916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752480"/>
            <a:ext cx="7416720" cy="1981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La domanda di lavoro 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Bitstream Vera Sans"/>
              </a:rPr>
              <a:t>in lingua inglese</a:t>
            </a:r>
            <a:endParaRPr b="0" lang="en-US" sz="3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140360"/>
            <a:ext cx="4168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relator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457200" algn="ctr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Bitstream Vera Sans"/>
              </a:rPr>
              <a:t>Bernd Faa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Terminologia 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8496000" cy="37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295280"/>
            <a:ext cx="79250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523880"/>
            <a:ext cx="38862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Ingles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1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urriculum Vita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91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over Lett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0" name=""/>
          <p:cNvSpPr/>
          <p:nvPr/>
        </p:nvSpPr>
        <p:spPr>
          <a:xfrm>
            <a:off x="5089680" y="2570040"/>
            <a:ext cx="23778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1523880"/>
            <a:ext cx="350532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Bitstream Vera Sans"/>
              </a:rPr>
              <a:t>American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Resum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overing Lett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881520"/>
            <a:ext cx="8534520" cy="18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1000"/>
              </a:lnSpc>
              <a:spcBef>
                <a:spcPts val="1375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breve e conciso senza tralasciare dettagli importanti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1000"/>
              </a:lnSpc>
              <a:spcBef>
                <a:spcPts val="1375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massimo 20 parole per frase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1000"/>
              </a:lnSpc>
              <a:spcBef>
                <a:spcPts val="1375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font di scrittura: commerciale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(Arial, Courier, Times New Roman)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91000"/>
              </a:lnSpc>
              <a:spcBef>
                <a:spcPts val="1375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uguale per CV e Cover Letter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0353B-1BB5-4B1A-B6E1-711965E26CDC}" type="slidenum">
              <a:t>10</a:t>
            </a:fld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69920"/>
            <a:ext cx="77691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Cover letter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681120" y="1512720"/>
            <a:ext cx="783540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indirizzata a persona specifica (telefonare prima)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32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oggetto dopo “Dear Sir or Madam, Dear Mr Smith”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32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onfermare i dettagli dell’annuncio con competenze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32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reare attenzione per il CV senza fare ripetizioni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32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mai dare informazioni negative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32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oncludere con “Yours faithfully, Yours sincerely”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32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sotto la firma ENC: (allegati)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DA8D2-0C5D-4520-89FC-83E50406F5AF}" type="slidenum">
              <a:t>11</a:t>
            </a:fld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3720" y="312840"/>
            <a:ext cx="7765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Annuncio e rispost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1763640"/>
            <a:ext cx="3780000" cy="4140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09560" indent="-252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specialistica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560" indent="-252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esperienza di lavoro e mansione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560" indent="-252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conferenze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560" indent="-252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premio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560" indent="-252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indicare budge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560" indent="-252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programmi 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  <a:ea typeface="Arial Unicode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1800360"/>
            <a:ext cx="3961080" cy="4140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0" rIns="0" tIns="0" bIns="0" anchor="t">
            <a:normAutofit/>
          </a:bodyPr>
          <a:p>
            <a:pPr marL="198360" indent="-96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8360"/>
                <a:tab algn="l" pos="3031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graduate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198360" indent="-96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8360"/>
                <a:tab algn="l" pos="3031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at least 1 year marketing  experience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198360" indent="-96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8360"/>
                <a:tab algn="l" pos="3031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onfident communicator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198360" indent="-96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8360"/>
                <a:tab algn="l" pos="3031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creative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198360" indent="-96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8360"/>
                <a:tab algn="l" pos="3031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good with figure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198360" indent="-96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8360"/>
                <a:tab algn="l" pos="303120"/>
                <a:tab algn="l" pos="752400"/>
                <a:tab algn="l" pos="1201680"/>
                <a:tab algn="l" pos="1650960"/>
                <a:tab algn="l" pos="2100240"/>
                <a:tab algn="l" pos="2549520"/>
                <a:tab algn="l" pos="2998800"/>
                <a:tab algn="l" pos="3448080"/>
                <a:tab algn="l" pos="3897360"/>
                <a:tab algn="l" pos="4346640"/>
                <a:tab algn="l" pos="4795920"/>
                <a:tab algn="l" pos="5245200"/>
                <a:tab algn="l" pos="5694480"/>
                <a:tab algn="l" pos="6143760"/>
                <a:tab algn="l" pos="6593040"/>
                <a:tab algn="l" pos="7042320"/>
                <a:tab algn="l" pos="7491240"/>
                <a:tab algn="l" pos="7940520"/>
                <a:tab algn="l" pos="8389800"/>
                <a:tab algn="l" pos="8839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good level of PC literacy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886ED-52A7-4F0E-8CBB-63131F251BB8}" type="slidenum">
              <a:t>12</a:t>
            </a:fld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0120" y="307440"/>
            <a:ext cx="776916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Versioni CV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0360" y="1618920"/>
            <a:ext cx="77691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ronologico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: inizio con formazione o esperienza professional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Tematico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: in rilievo formazione e/o esperienze attinenti al posto vacant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3000"/>
              </a:lnSpc>
              <a:spcBef>
                <a:spcPts val="18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Mist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2590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2" name=""/>
          <p:cNvSpPr/>
          <p:nvPr/>
        </p:nvSpPr>
        <p:spPr>
          <a:xfrm>
            <a:off x="2404800" y="2625840"/>
            <a:ext cx="51552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na carriera mirata senza buchi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3" name=""/>
          <p:cNvSpPr/>
          <p:nvPr/>
        </p:nvSpPr>
        <p:spPr>
          <a:xfrm>
            <a:off x="1260360" y="4319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572000"/>
            <a:ext cx="57150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5" name=""/>
          <p:cNvSpPr/>
          <p:nvPr/>
        </p:nvSpPr>
        <p:spPr>
          <a:xfrm>
            <a:off x="2388960" y="4319640"/>
            <a:ext cx="3862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na carriera non linear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B057A-FB28-44F7-AF63-82972A653622}" type="slidenum">
              <a:t>13</a:t>
            </a:fld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90120" y="179280"/>
            <a:ext cx="77691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Struttura CV cronologic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0360" y="1441440"/>
            <a:ext cx="776916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Personal Detail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142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Job Objective / Career Objective / Job Targe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142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Work Experience / Employment History (ev. come Profile)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142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chievements / Accomplishmen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142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Education / Qualification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142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kills / Additional Skill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142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Hobbies / Interes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142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3114E-FDE4-4EC9-BBF4-125A8F43120C}" type="slidenum">
              <a:t>14</a:t>
            </a:fld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90120" y="179280"/>
            <a:ext cx="77691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Struttura CV tematic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20360" y="1441440"/>
            <a:ext cx="776916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8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Personal Detail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Job Objective / Career Objective / Job Targe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1. Top Skill (fondamentale per obbiettivo carriera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2. Top Skill (fondamentale per obbiettivo carriera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3. Top Skill (utile per obbiettivo carriera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nother Skill (utile per obbiettivo carriera)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rea of Proficiency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Achievements / Accomplishmen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Work History (solo durata, mansione, azienda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Education / Qualification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Hobbies / Interest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2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9814-1B0B-4A84-9AAB-E6DE4D241CDC}" type="slidenum">
              <a:t>15</a:t>
            </a:fld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0000" y="61920"/>
            <a:ext cx="8094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areer Objective / Job Target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0120" y="1441440"/>
            <a:ext cx="776916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riassumere in 1-2 righe l´obbiettivo professionale collegato strettamente con la posizione annunci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ts val="5125"/>
              </a:lnSpc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A customer service position in the leisure industry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73000"/>
              </a:lnSpc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Managing the network and computer development of a large progessive organizazi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122000"/>
              </a:lnSpc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To obtain a position as a coordinator in Rehabilitation Services at Hospita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122000"/>
              </a:lnSpc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Bitstream Vera Sans"/>
              </a:rPr>
              <a:t>To obtain an internship within the marketing department of a  financial organisation to enhance my education as a marketing professional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5E1AA-3ABE-43A0-9B00-F0D66B482424}" type="slidenum">
              <a:t>16</a:t>
            </a:fld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9536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Profil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079640"/>
            <a:ext cx="805824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piega il carattere della persona e le sue qualifiche e competenz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12840">
              <a:lnSpc>
                <a:spcPct val="18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fficient and organised Team Secretary with a wealth of skills gained in a variety of organisations. Very good at working under pressure within a hectic environment with changing priorities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12840">
              <a:lnSpc>
                <a:spcPct val="18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n experienced and conscientious Manager with excellent organisational skills. Very resourceful when dealing with problem-solving. Good negotiation and teamworking skills. Successfully ran a busy office environment gaining valuable knowledge of improving departmental efficiency. Excellent word-processing and database management skills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360" indent="-312840">
              <a:lnSpc>
                <a:spcPct val="18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patient, perceptive and thorough research assistant, with a specific interest in education and development, especially as applied to adult learning, and practical experience of eliciting, collecting and analysing psychological data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75BC3-9482-4BDC-8080-9C775D6769AF}" type="slidenum">
              <a:t>17</a:t>
            </a:fld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9536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Work history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05824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16080"/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avori elencati in modo cronologico inverso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16080"/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itolo della mansione, denominazione azienda, città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16080"/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descrivere mansioni principal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16080"/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enzionare “achievements”= riportare i risultati raggiunti mirando sulla futura azienda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6080" indent="-3160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16080"/>
                <a:tab algn="l" pos="42084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lencare mansioni collegate con la posizio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D7DA2-A942-41F8-8FE3-9D74C23F56D5}" type="slidenum">
              <a:t>18</a:t>
            </a:fld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9536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Power words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058240" cy="42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9760" indent="0" algn="just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aratteristiche positiv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 algn="just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e, ambitious, analytical, calm, communicative, competent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 algn="just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ion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 algn="just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ed, contributed, created, determined, executed, facilitate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 algn="just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tteristiche ricercat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 algn="just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le, punctual, trustworthy, friendly, willing to learn, enthusiastic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 algn="just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taggi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9760" indent="0" algn="just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: competitive advantage, appearance and marketability, organisation, information flow, staff performance, teamwork and relationships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0A84F-D1DD-47CD-9C43-606B445DB0C3}" type="slidenum">
              <a:t>19</a:t>
            </a:fld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Bitstream Vera Sans"/>
              </a:rPr>
              <a:t>BUONO A SAPERSI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000" y="1409760"/>
            <a:ext cx="8459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ts val="4363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......... minuti / secondi per la prima scrematura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ts val="4363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......... candidature per annunci su Interne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ts val="4363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......... % dei lavori trovati tramite networking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ts val="4363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......... % dei lavori tramite annunci su Interne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ts val="4363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......... % dei selezionatori verificano su Facebook..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ts val="4363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......... % posti di lavoro non pubblicizzat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>
              <a:lnSpc>
                <a:spcPts val="4363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itstream Vera Sans"/>
              </a:rPr>
              <a:t>Non Panda ma .......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0">
              <a:lnSpc>
                <a:spcPts val="4363"/>
              </a:lnSpc>
              <a:spcBef>
                <a:spcPts val="601"/>
              </a:spcBef>
              <a:buNone/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E05AA-4140-43FD-9E00-CF81ADF9A62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9536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Referenz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6360" y="1150560"/>
            <a:ext cx="830736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3142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1428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gnome e indirizzo-telefono di almeno due “referees”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4280" indent="-3142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1428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ondo accademico -  ambiente di lavor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4280" indent="-3142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1428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vita scolastica – privata da evitare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4280" indent="-3142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1428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iederne il permesso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4280" indent="-3142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1428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1120"/>
                <a:tab algn="l" pos="5810400"/>
                <a:tab algn="l" pos="625968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vailable upon request”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5D7BC-F987-473D-A376-8FE4589EBED7}" type="slidenum">
              <a:t>20</a:t>
            </a:fld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68280"/>
            <a:ext cx="7765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Titolo di studio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3720" y="1260360"/>
            <a:ext cx="77659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University of Turin, “Laurea specialistica in architettura” (equivalent MA in architectur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468440" indent="-55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SA: Major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Minors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thesi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Istituto tecnico “G.Garibaldi”, Turin, Italian “diploma di maturità” (British equivalent A-Level, American equivalent High School Exam)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937C6-1AA5-4AFF-85AA-F194A240ED49}" type="slidenum">
              <a:t>21</a:t>
            </a:fld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68280"/>
            <a:ext cx="7765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Voto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3720" y="1800000"/>
            <a:ext cx="7765920" cy="53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09600">
              <a:lnSpc>
                <a:spcPct val="89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irst class Honours degree in... (1.1 = 110/110)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09600">
              <a:lnSpc>
                <a:spcPct val="89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Upper second class (2.1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09600">
              <a:lnSpc>
                <a:spcPct val="89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econd class ecc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US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-309600">
              <a:lnSpc>
                <a:spcPct val="89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Grade Point Average GPA: A (110/110)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41148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........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4114800" indent="-438120">
              <a:lnSpc>
                <a:spcPct val="83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F (failed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A49DB-121B-49C3-9CFB-DE09D6341D65}" type="slidenum">
              <a:t>22</a:t>
            </a:fld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68280"/>
            <a:ext cx="7765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Da evitare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93720" y="1619280"/>
            <a:ext cx="77659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 stipendio, razza, religione, stato familiare, scuola elementare, luogo di nascita (USA: data di nascita)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sigle e abbreviazioni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lingua parlat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giustificazioni (durata breve di un lavoro, bucchi, candidarsi all'estero)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firma nel CV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B6315-DBD2-4936-A0C1-139B347B347F}" type="slidenum">
              <a:t>23</a:t>
            </a:fld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Application form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400" y="1439640"/>
            <a:ext cx="83822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olto utilizzato da amministrazioni pubbliche, agenzie di reclutamento e organizzazioni internazional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ermette di confrontare velocemente candidati divers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empre chiedersi: perchè fanno questa domanda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ichiede grande attenzione nella compilazione perché non segue la logica del CV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EB229-8CA7-4499-9F2A-00322F85BB2B}" type="slidenum">
              <a:t>24</a:t>
            </a:fld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Domande specifich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7400" y="1186920"/>
            <a:ext cx="83822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Give an example of a problem requiring analysis. What methods did you use and what conclusions did you reach?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plain why you have applied?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Give details of your main extra-curricular activities and interests. What have you contributed and what have you got out of them?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Give an example of when you set yourself a demanding goal and overcame obstacles to achieve it?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9711E-39E7-4CF6-92F7-3F6C9B033C7F}" type="slidenum">
              <a:t>25</a:t>
            </a:fld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916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Bitstream Vera Sans"/>
              </a:rPr>
              <a:t>Organizzazione internazionale</a:t>
            </a:r>
            <a:endParaRPr b="1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136520"/>
            <a:ext cx="867564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161640" algn="just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163440"/>
                <a:tab algn="l" pos="31752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stitutions in Higher education and titles of degrees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1640" algn="just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163440"/>
                <a:tab algn="l" pos="31752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University scholarship, publications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1640" algn="just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163440"/>
                <a:tab algn="l" pos="31752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nowledge of languages: Read -  Write – Speak – Understan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1640" algn="just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163440"/>
                <a:tab algn="l" pos="31752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mputer skills : Basic – Good -  Excellen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1640" algn="just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163440"/>
                <a:tab algn="l" pos="31752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mployment: Any previous practical experience giving details of duti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161640" algn="just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163440"/>
                <a:tab algn="l" pos="31752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reas of interest for the internship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8259-43D8-4CF5-A503-2E39762D48FA}" type="slidenum">
              <a:t>26</a:t>
            </a:fld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0120" y="179280"/>
            <a:ext cx="77691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Modulo on line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0120" y="1798200"/>
            <a:ext cx="77691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edie e grandi aziende e organizzazioni internazional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85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igido nella compilazio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85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mpilare prima off li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85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crematura automatic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85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crenning per parole chiav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1BC5-0947-4DC7-A226-CD5CA1E5D8B6}" type="slidenum">
              <a:t>27</a:t>
            </a:fld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60000"/>
            <a:ext cx="77691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CV europe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20360" y="1800000"/>
            <a:ext cx="776916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ncora poco conosciut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85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igido nella struttura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85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er amministrazioni pubblich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85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on adatto alle aziende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lnSpc>
                <a:spcPct val="185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http://europass.cedefop.europa.eu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B0448-791A-4A4B-975C-09560477A1CE}" type="slidenum">
              <a:t>28</a:t>
            </a:fld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61920"/>
            <a:ext cx="77691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Errori frequenti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0120" y="1619280"/>
            <a:ext cx="776916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raduzione letterale della domanda italian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7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truttura poco chiara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7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denominazione professionale sbagliat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7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indicazione incompleta delle competenz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7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essun adattamento delle particolarità italia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7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essun controllo di grammatica e stile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27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tampa dimenticata prima della spedizione (e-mail)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E8818-F397-4C4C-BA2C-A58873A8FFDC}" type="slidenum">
              <a:t>29</a:t>
            </a:fld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9536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ndidatura all’estero - cosa serve?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471320"/>
            <a:ext cx="849636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145440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0"/>
                <a:tab algn="l" pos="148428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101710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            </a:t>
            </a:r>
            <a:r>
              <a:rPr b="1" i="1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ettera     CV</a:t>
            </a:r>
            <a:r>
              <a:rPr b="0" i="1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1" i="1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oto</a:t>
            </a:r>
            <a:r>
              <a:rPr b="0" i="1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iplomi      Referenze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48428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101710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ermania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x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48428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101710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rancia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x 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-     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48428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101710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rlanda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-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u richiesta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  su richiesta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48428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101710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no Unito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u rich.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u richiesta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  su richiesta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48428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101710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pagna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u richiesta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   su richiesta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  <a:p>
            <a:pPr marL="3265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48428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1017108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ati Uniti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x 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B5985-D038-415B-93D5-F9209A32FF7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206280"/>
            <a:ext cx="77691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Da ricordarsi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60360" y="1332000"/>
            <a:ext cx="809928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lasciarlo “riposare” e spedirlo dopo la rilettura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rileggere a voce alta la lettera di motivazione e parti liberi dell'application form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farlo controllare da un'altra persona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controllare l'esattezza dei dati personali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Bitstream Vera Sans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tenere una copia con l'annuncio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A6E68-D054-48E4-A8E4-05F8ADB1B916}" type="slidenum">
              <a:t>30</a:t>
            </a:fld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Homepag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199880"/>
            <a:ext cx="828648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glietto da visita mondial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formazioni multipli su se stesso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cile da aggiornar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acile da personalizzar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ccompagna nella carriera professional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1DADA-AA60-494F-B4F4-BCDBDDE842B6}" type="slidenum">
              <a:t>31</a:t>
            </a:fld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68280"/>
            <a:ext cx="7765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Blog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3720" y="1627200"/>
            <a:ext cx="77659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STRUMENTO DI RICERCA INDIRETTA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850"/>
              </a:spcBef>
              <a:spcAft>
                <a:spcPts val="575"/>
              </a:spcAft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se abbiamo qualcosa da dir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850"/>
              </a:spcBef>
              <a:spcAft>
                <a:spcPts val="575"/>
              </a:spcAft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se questo può interessare qualcun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850"/>
              </a:spcBef>
              <a:spcAft>
                <a:spcPts val="575"/>
              </a:spcAft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solo contesto professional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850"/>
              </a:spcBef>
              <a:spcAft>
                <a:spcPts val="575"/>
              </a:spcAft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original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850"/>
              </a:spcBef>
              <a:spcAft>
                <a:spcPts val="575"/>
              </a:spcAft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riassunto di tendenz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850"/>
              </a:spcBef>
              <a:spcAft>
                <a:spcPts val="575"/>
              </a:spcAft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opionine si ma fondat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850"/>
              </a:spcBef>
              <a:spcAft>
                <a:spcPts val="575"/>
              </a:spcAft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curata con regolarità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850"/>
              </a:spcBef>
              <a:spcAft>
                <a:spcPts val="575"/>
              </a:spcAft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far conoscere il blog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850"/>
              </a:spcBef>
              <a:spcAft>
                <a:spcPts val="575"/>
              </a:spcAft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5E239-3FBF-40A7-8239-D82987B3D1BC}" type="slidenum">
              <a:t>32</a:t>
            </a:fld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3720" y="360360"/>
            <a:ext cx="7765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Video CV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3720" y="1465200"/>
            <a:ext cx="77659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trumento del futur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utile in particolare all'inizio carrier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farsi conoscere velocemente a tant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inglese ottim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serve personalità comunicativ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preparazione accurata con supervisio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rischio: non mirato su singola aziend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40A97-AC14-4ECA-BADF-B1117D02E1A0}" type="slidenum">
              <a:t>33</a:t>
            </a:fld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3720" y="360360"/>
            <a:ext cx="7765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Social/business network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20720" y="1619280"/>
            <a:ext cx="77659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sempre più utilizzato da reclutatori sia per cercare sia per verificar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permette far rete con colleghi e accedere ai loro contatt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richiede forte impegno di tempo e costanz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rischi dovuti ai commenti e ai amici 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146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- ATT.: la rete non cancella niente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012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CA3D8-DAE0-460A-A258-FCE58AAD95AD}" type="slidenum">
              <a:t>34</a:t>
            </a:fld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41200"/>
            <a:ext cx="77691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Risorse su Internet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60000" y="131256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www.monster.co.uk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itstream Vera Sans"/>
              </a:rPr>
              <a:t>www.prospects.ac.uk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itstream Vera Sans"/>
              </a:rPr>
              <a:t>www.kent.ac.uk/careers/cv/cvexamples.ht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itstream Vera Sans"/>
              </a:rPr>
              <a:t>http://jobsearch.about.com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itstream Vera Sans"/>
              </a:rPr>
              <a:t>www.cvtips.com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9480"/>
                <a:tab algn="l" pos="628668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itstream Vera Sans"/>
              </a:rPr>
              <a:t>www.cambiolavoro.com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861B-8DEE-44F4-9211-5AB40A7F4884}" type="slidenum">
              <a:t>35</a:t>
            </a:fld>
          </a:p>
        </p:txBody>
      </p:sp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394920"/>
            <a:ext cx="7767720" cy="8874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EUROCULTUR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6" name=""/>
          <p:cNvSpPr/>
          <p:nvPr/>
        </p:nvSpPr>
        <p:spPr>
          <a:xfrm>
            <a:off x="804960" y="2486160"/>
            <a:ext cx="2047680" cy="21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ontaria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i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7" name=""/>
          <p:cNvSpPr/>
          <p:nvPr/>
        </p:nvSpPr>
        <p:spPr>
          <a:xfrm>
            <a:off x="5632560" y="2486160"/>
            <a:ext cx="2925720" cy="21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7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lenza orientativ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erto in line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si di lingu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amb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8" name=""/>
          <p:cNvSpPr/>
          <p:nvPr/>
        </p:nvSpPr>
        <p:spPr>
          <a:xfrm>
            <a:off x="1584360" y="1542960"/>
            <a:ext cx="6335640" cy="51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ormazione, formazione e consulenza sull’ester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0" y="2486160"/>
            <a:ext cx="2027160" cy="21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eers Abroa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bi-Un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bi-Flash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tinazion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0" name=""/>
          <p:cNvSpPr/>
          <p:nvPr/>
        </p:nvSpPr>
        <p:spPr>
          <a:xfrm>
            <a:off x="3254400" y="5746680"/>
            <a:ext cx="292860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ww.eurocultura.i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695600" y="4873680"/>
            <a:ext cx="2371680" cy="720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580000" y="4859280"/>
            <a:ext cx="1832040" cy="72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D2213-2271-463E-84B8-6A0CD4B025D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Bitstream Vera Sans"/>
              </a:rPr>
              <a:t>Grazie per l’attenzione.</a:t>
            </a:r>
            <a:endParaRPr b="1" lang="en-US" sz="37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30000"/>
              </a:lnSpc>
              <a:spcBef>
                <a:spcPts val="924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30000"/>
              </a:lnSpc>
              <a:spcBef>
                <a:spcPts val="924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Bernd Faa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urocultur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a Mercato Nuovo 44 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6100 Vicenz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l. 0444-964770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@eurocultura.i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eurocultura.i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0" y="2952720"/>
            <a:ext cx="4114800" cy="25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E7AB4-E5D9-4E10-8BDB-EA795B21AF57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CANDIDATURA – COME FARE?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137960"/>
            <a:ext cx="82868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andidatura tramite pos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andidatura tramite e-mail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pplication for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andidatura on-lin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-------------------------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omepage – Video CV – Blog – social/business network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ts val="5125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8E5C9-B02D-46AB-9EE5-B99773BF6275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Bitstream Vera Sans"/>
              </a:rPr>
              <a:t>Iter di selezion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65160" y="1727280"/>
            <a:ext cx="3967200" cy="4481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 fontScale="99000"/>
          </a:bodyPr>
          <a:p>
            <a:pPr marL="325080" indent="-325080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Annuncio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Prima scrematur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Verifica approfondi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Selezione candidati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Verifica (Skype, colloquio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Selezione 3-4 candidati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Colloqui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Scelta definitiv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Definizione contrat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Inizio lavor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7920000"/>
            <a:ext cx="126072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0" name=""/>
          <p:cNvSpPr/>
          <p:nvPr/>
        </p:nvSpPr>
        <p:spPr>
          <a:xfrm>
            <a:off x="5904000" y="1739880"/>
            <a:ext cx="1619280" cy="4471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 algn="ctr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12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 algn="ctr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 algn="ctr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 algn="ctr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 algn="ctr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 algn="ctr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 algn="ctr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 algn="ctr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5/4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 algn="ctr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8680" indent="-328680" algn="ctr">
              <a:lnSpc>
                <a:spcPct val="100000"/>
              </a:lnSpc>
              <a:spcBef>
                <a:spcPts val="601"/>
              </a:spcBef>
              <a:spcAft>
                <a:spcPts val="575"/>
              </a:spcAft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332000"/>
            <a:ext cx="1619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settiman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2" name=""/>
          <p:cNvSpPr/>
          <p:nvPr/>
        </p:nvSpPr>
        <p:spPr>
          <a:xfrm>
            <a:off x="2016000" y="1332000"/>
            <a:ext cx="1619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itstream Vera Sans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5F9CF-0F85-4D04-AC0D-10528C5DCAE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68280"/>
            <a:ext cx="7765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PREPARAZIONE ALLA CANDIDATURA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627200"/>
            <a:ext cx="828036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299880">
              <a:lnSpc>
                <a:spcPct val="98000"/>
              </a:lnSpc>
              <a:spcBef>
                <a:spcPts val="711"/>
              </a:spcBef>
              <a:spcAft>
                <a:spcPts val="850"/>
              </a:spcAft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30780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oscere azienda, cultura aziendale, prodotti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-299880">
              <a:lnSpc>
                <a:spcPct val="146000"/>
              </a:lnSpc>
              <a:spcBef>
                <a:spcPts val="711"/>
              </a:spcBef>
              <a:spcAft>
                <a:spcPts val="850"/>
              </a:spcAft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30780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ispondere esattamente alle richieste dell'annunci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-299880">
              <a:lnSpc>
                <a:spcPct val="146000"/>
              </a:lnSpc>
              <a:spcBef>
                <a:spcPts val="711"/>
              </a:spcBef>
              <a:spcAft>
                <a:spcPts val="850"/>
              </a:spcAft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30780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tatto diretto nell'ufficio personal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-299880">
              <a:lnSpc>
                <a:spcPct val="146000"/>
              </a:lnSpc>
              <a:spcBef>
                <a:spcPts val="711"/>
              </a:spcBef>
              <a:spcAft>
                <a:spcPts val="850"/>
              </a:spcAft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30780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elezionare azienda o agenzia con cur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-299880">
              <a:lnSpc>
                <a:spcPct val="146000"/>
              </a:lnSpc>
              <a:spcBef>
                <a:spcPts val="711"/>
              </a:spcBef>
              <a:spcAft>
                <a:spcPts val="850"/>
              </a:spcAft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30780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cegliere numero consistente di azien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-299880">
              <a:lnSpc>
                <a:spcPct val="146000"/>
              </a:lnSpc>
              <a:spcBef>
                <a:spcPts val="711"/>
              </a:spcBef>
              <a:spcAft>
                <a:spcPts val="850"/>
              </a:spcAft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30780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dopo la spedizione ricontattare l'azienda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07800" indent="0">
              <a:lnSpc>
                <a:spcPct val="89000"/>
              </a:lnSpc>
              <a:spcBef>
                <a:spcPts val="700"/>
              </a:spcBef>
              <a:buNone/>
              <a:tabLst>
                <a:tab algn="l" pos="0"/>
                <a:tab algn="l" pos="30780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5464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2782C-5152-489A-8951-6AF8DB3FD48A}" type="slidenum">
              <a:t>6</a:t>
            </a:fld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60000"/>
            <a:ext cx="77691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Atteggiamento del selezionatore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78000"/>
            <a:ext cx="776916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4363"/>
              </a:lnSpc>
              <a:spcBef>
                <a:spcPts val="312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siona anche decine di CV al giorno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ts val="4363"/>
              </a:lnSpc>
              <a:spcBef>
                <a:spcPts val="312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deve capire entro pochi secondi che il candidato è interessante  = ok, passa al 2. round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ts val="4363"/>
              </a:lnSpc>
              <a:spcBef>
                <a:spcPts val="312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nel 2. round approfondisce secondo i requisiti del posto in questione = CV indirizzato ad una posizione specific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094360"/>
            <a:ext cx="1079640" cy="485640"/>
          </a:xfrm>
          <a:prstGeom prst="rightArrow">
            <a:avLst>
              <a:gd name="adj1" fmla="val 50000"/>
              <a:gd name="adj2" fmla="val 55578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9" name=""/>
          <p:cNvSpPr/>
          <p:nvPr/>
        </p:nvSpPr>
        <p:spPr>
          <a:xfrm>
            <a:off x="2222640" y="5146560"/>
            <a:ext cx="5697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mettersi nei panni della contropart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B14F-C7D3-4F90-91B9-42942A33ECD0}" type="slidenum">
              <a:t>7</a:t>
            </a:fld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09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itstream Vera Sans"/>
              </a:rPr>
              <a:t>Formula</a:t>
            </a:r>
            <a:r>
              <a:rPr b="1" lang="it-IT" sz="3200" spc="-1" strike="noStrike">
                <a:solidFill>
                  <a:srgbClr val="000000"/>
                </a:solidFill>
                <a:latin typeface="Bitstream Vera Sans"/>
              </a:rPr>
              <a:t> A.I.D.A.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308240"/>
            <a:ext cx="82152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5080" indent="-325080">
              <a:lnSpc>
                <a:spcPct val="1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 = attirare l’</a:t>
            </a:r>
            <a:r>
              <a:rPr b="1" lang="it-IT" sz="2400" spc="-1" strike="noStrike">
                <a:solidFill>
                  <a:srgbClr val="000000"/>
                </a:solidFill>
                <a:latin typeface="Bitstream Vera Sans"/>
              </a:rPr>
              <a:t>attenzione</a:t>
            </a: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 tramite una presentazione appariscent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itstream Vera Sans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  = suscitare </a:t>
            </a:r>
            <a:r>
              <a:rPr b="1" lang="it-IT" sz="2400" spc="-1" strike="noStrike">
                <a:solidFill>
                  <a:srgbClr val="000000"/>
                </a:solidFill>
                <a:latin typeface="Bitstream Vera Sans"/>
              </a:rPr>
              <a:t>interesse</a:t>
            </a: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 per la person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itstream Vera Sans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 = far nascere il </a:t>
            </a:r>
            <a:r>
              <a:rPr b="1" lang="it-IT" sz="2400" spc="-1" strike="noStrike">
                <a:solidFill>
                  <a:srgbClr val="000000"/>
                </a:solidFill>
                <a:latin typeface="Bitstream Vera Sans"/>
              </a:rPr>
              <a:t>desiderio</a:t>
            </a: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 di conoscerla (telefonar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080" indent="-325080">
              <a:lnSpc>
                <a:spcPct val="1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itstream Vera San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 = provocare l’</a:t>
            </a:r>
            <a:r>
              <a:rPr b="1" lang="it-IT" sz="2400" spc="-1" strike="noStrike">
                <a:solidFill>
                  <a:srgbClr val="000000"/>
                </a:solidFill>
                <a:latin typeface="Bitstream Vera Sans"/>
              </a:rPr>
              <a:t>azione</a:t>
            </a:r>
            <a:r>
              <a:rPr b="0" lang="it-IT" sz="2400" spc="-1" strike="noStrike">
                <a:solidFill>
                  <a:srgbClr val="000000"/>
                </a:solidFill>
                <a:latin typeface="Bitstream Vera Sans"/>
              </a:rPr>
              <a:t> “invito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31A44-653D-4C1A-B846-B567E8B6A31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7520" y="351000"/>
            <a:ext cx="79628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Extended Truth = verità allargat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04520" y="1501920"/>
            <a:ext cx="776916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ts val="5125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290520"/>
                <a:tab algn="l" pos="73980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Bitstream Vera Sans"/>
              </a:rPr>
              <a:t>Vendere bene se stesso e le proprie competenze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185760" indent="-157320">
              <a:lnSpc>
                <a:spcPct val="195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185760"/>
                <a:tab algn="l" pos="290520"/>
                <a:tab algn="l" pos="73980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é modestia né bugie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185760" indent="-157320">
              <a:lnSpc>
                <a:spcPct val="195000"/>
              </a:lnSpc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185760"/>
                <a:tab algn="l" pos="290520"/>
                <a:tab algn="l" pos="73980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ccentuare in modo calcolato per far aderire al posto in questione le proprie competenz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9560" indent="-252360">
              <a:lnSpc>
                <a:spcPct val="91000"/>
              </a:lnSpc>
              <a:spcBef>
                <a:spcPts val="3263"/>
              </a:spcBef>
              <a:buClr>
                <a:srgbClr val="000000"/>
              </a:buClr>
              <a:buFont typeface="Bitstream Vera Sans"/>
              <a:buChar char="–"/>
              <a:tabLst>
                <a:tab algn="l" pos="185760"/>
                <a:tab algn="l" pos="290520"/>
                <a:tab algn="l" pos="73980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i="1" lang="en-GB" sz="2400" spc="-1" strike="noStrike">
                <a:solidFill>
                  <a:srgbClr val="000000"/>
                </a:solidFill>
                <a:latin typeface="Bitstream Vera Sans"/>
              </a:rPr>
              <a:t>negli Usa il venditore di gelato è manager     nel settore alimentar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859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1F797-572D-4AAA-A089-ECBAC3D233BE}" type="slidenum">
              <a:t>9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rnd Faas</dc:creator>
  <dc:description/>
  <dc:language>en-US</dc:language>
  <cp:lastModifiedBy>Bernd Faas</cp:lastModifiedBy>
  <cp:lastPrinted>2013-01-11T01:54:08Z</cp:lastPrinted>
  <cp:revision>0</cp:revision>
  <dc:subject/>
  <dc:title>CV in lingua inglese lunga</dc:title>
</cp:coreProperties>
</file>