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712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8000" cy="9712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12440"/>
              <a:gd name="textAreaBottom" fmla="*/ 9712080 h 9712440"/>
            </a:gdLst>
            <a:ahLst/>
            <a:rect l="textAreaLeft" t="textAreaTop" r="textAreaRight" b="textAreaBottom"/>
            <a:pathLst>
              <a:path w="21600" h="30590">
                <a:moveTo>
                  <a:pt x="5" y="0"/>
                </a:moveTo>
                <a:arcTo wR="5" hR="5" stAng="16200000" swAng="-5400000"/>
                <a:lnTo>
                  <a:pt x="0" y="30585"/>
                </a:lnTo>
                <a:arcTo wR="5" hR="5" stAng="10800000" swAng="-5400000"/>
                <a:lnTo>
                  <a:pt x="21595" y="305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858000" cy="9712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12440"/>
              <a:gd name="textAreaBottom" fmla="*/ 9712080 h 9712440"/>
            </a:gdLst>
            <a:ahLst/>
            <a:rect l="textAreaLeft" t="textAreaTop" r="textAreaRight" b="textAreaBottom"/>
            <a:pathLst>
              <a:path w="21600" h="30590">
                <a:moveTo>
                  <a:pt x="5" y="0"/>
                </a:moveTo>
                <a:arcTo wR="5" hR="5" stAng="16200000" swAng="-5400000"/>
                <a:lnTo>
                  <a:pt x="0" y="30585"/>
                </a:lnTo>
                <a:arcTo wR="5" hR="5" stAng="10800000" swAng="-5400000"/>
                <a:lnTo>
                  <a:pt x="21595" y="305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6858000" cy="9712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12440"/>
              <a:gd name="textAreaBottom" fmla="*/ 9712080 h 9712440"/>
            </a:gdLst>
            <a:ahLst/>
            <a:rect l="textAreaLeft" t="textAreaTop" r="textAreaRight" b="textAreaBottom"/>
            <a:pathLst>
              <a:path w="21600" h="30590">
                <a:moveTo>
                  <a:pt x="5" y="0"/>
                </a:moveTo>
                <a:arcTo wR="5" hR="5" stAng="16200000" swAng="-5400000"/>
                <a:lnTo>
                  <a:pt x="0" y="30585"/>
                </a:lnTo>
                <a:arcTo wR="5" hR="5" stAng="10800000" swAng="-5400000"/>
                <a:lnTo>
                  <a:pt x="21595" y="305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6858000" cy="9712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12440"/>
              <a:gd name="textAreaBottom" fmla="*/ 9712080 h 9712440"/>
            </a:gdLst>
            <a:ahLst/>
            <a:rect l="textAreaLeft" t="textAreaTop" r="textAreaRight" b="textAreaBottom"/>
            <a:pathLst>
              <a:path w="21600" h="30590">
                <a:moveTo>
                  <a:pt x="5" y="0"/>
                </a:moveTo>
                <a:arcTo wR="5" hR="5" stAng="16200000" swAng="-5400000"/>
                <a:lnTo>
                  <a:pt x="0" y="30585"/>
                </a:lnTo>
                <a:arcTo wR="5" hR="5" stAng="10800000" swAng="-5400000"/>
                <a:lnTo>
                  <a:pt x="21595" y="305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6858000" cy="9712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12440"/>
              <a:gd name="textAreaBottom" fmla="*/ 9712080 h 9712440"/>
            </a:gdLst>
            <a:ahLst/>
            <a:rect l="textAreaLeft" t="textAreaTop" r="textAreaRight" b="textAreaBottom"/>
            <a:pathLst>
              <a:path w="21600" h="30590">
                <a:moveTo>
                  <a:pt x="5" y="0"/>
                </a:moveTo>
                <a:arcTo wR="5" hR="5" stAng="16200000" swAng="-5400000"/>
                <a:lnTo>
                  <a:pt x="0" y="30585"/>
                </a:lnTo>
                <a:arcTo wR="5" hR="5" stAng="10800000" swAng="-5400000"/>
                <a:lnTo>
                  <a:pt x="21595" y="305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6858000" cy="9712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12440"/>
              <a:gd name="textAreaBottom" fmla="*/ 9712080 h 9712440"/>
            </a:gdLst>
            <a:ahLst/>
            <a:rect l="textAreaLeft" t="textAreaTop" r="textAreaRight" b="textAreaBottom"/>
            <a:pathLst>
              <a:path w="21600" h="30590">
                <a:moveTo>
                  <a:pt x="5" y="0"/>
                </a:moveTo>
                <a:arcTo wR="5" hR="5" stAng="16200000" swAng="-5400000"/>
                <a:lnTo>
                  <a:pt x="0" y="30585"/>
                </a:lnTo>
                <a:arcTo wR="5" hR="5" stAng="10800000" swAng="-5400000"/>
                <a:lnTo>
                  <a:pt x="21595" y="305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6858000" cy="9712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12440"/>
              <a:gd name="textAreaBottom" fmla="*/ 9712080 h 9712440"/>
            </a:gdLst>
            <a:ahLst/>
            <a:rect l="textAreaLeft" t="textAreaTop" r="textAreaRight" b="textAreaBottom"/>
            <a:pathLst>
              <a:path w="21600" h="30590">
                <a:moveTo>
                  <a:pt x="5" y="0"/>
                </a:moveTo>
                <a:arcTo wR="5" hR="5" stAng="16200000" swAng="-5400000"/>
                <a:lnTo>
                  <a:pt x="0" y="30585"/>
                </a:lnTo>
                <a:arcTo wR="5" hR="5" stAng="10800000" swAng="-5400000"/>
                <a:lnTo>
                  <a:pt x="21595" y="305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6858000" cy="9712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12440"/>
              <a:gd name="textAreaBottom" fmla="*/ 9712080 h 9712440"/>
            </a:gdLst>
            <a:ahLst/>
            <a:rect l="textAreaLeft" t="textAreaTop" r="textAreaRight" b="textAreaBottom"/>
            <a:pathLst>
              <a:path w="21600" h="30590">
                <a:moveTo>
                  <a:pt x="5" y="0"/>
                </a:moveTo>
                <a:arcTo wR="5" hR="5" stAng="16200000" swAng="-5400000"/>
                <a:lnTo>
                  <a:pt x="0" y="30585"/>
                </a:lnTo>
                <a:arcTo wR="5" hR="5" stAng="10800000" swAng="-5400000"/>
                <a:lnTo>
                  <a:pt x="21595" y="305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6858000" cy="9712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12440"/>
              <a:gd name="textAreaBottom" fmla="*/ 9712080 h 9712440"/>
            </a:gdLst>
            <a:ahLst/>
            <a:rect l="textAreaLeft" t="textAreaTop" r="textAreaRight" b="textAreaBottom"/>
            <a:pathLst>
              <a:path w="21600" h="30590">
                <a:moveTo>
                  <a:pt x="5" y="0"/>
                </a:moveTo>
                <a:arcTo wR="5" hR="5" stAng="16200000" swAng="-5400000"/>
                <a:lnTo>
                  <a:pt x="0" y="30585"/>
                </a:lnTo>
                <a:arcTo wR="5" hR="5" stAng="10800000" swAng="-5400000"/>
                <a:lnTo>
                  <a:pt x="21595" y="305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6858000" cy="9712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12440"/>
              <a:gd name="textAreaBottom" fmla="*/ 9712080 h 9712440"/>
            </a:gdLst>
            <a:ahLst/>
            <a:rect l="textAreaLeft" t="textAreaTop" r="textAreaRight" b="textAreaBottom"/>
            <a:pathLst>
              <a:path w="21600" h="30590">
                <a:moveTo>
                  <a:pt x="5" y="0"/>
                </a:moveTo>
                <a:arcTo wR="5" hR="5" stAng="16200000" swAng="-5400000"/>
                <a:lnTo>
                  <a:pt x="0" y="30585"/>
                </a:lnTo>
                <a:arcTo wR="5" hR="5" stAng="10800000" swAng="-5400000"/>
                <a:lnTo>
                  <a:pt x="21595" y="305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6858000" cy="9712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12440"/>
              <a:gd name="textAreaBottom" fmla="*/ 9712080 h 9712440"/>
            </a:gdLst>
            <a:ahLst/>
            <a:rect l="textAreaLeft" t="textAreaTop" r="textAreaRight" b="textAreaBottom"/>
            <a:pathLst>
              <a:path w="21600" h="30590">
                <a:moveTo>
                  <a:pt x="5" y="0"/>
                </a:moveTo>
                <a:arcTo wR="5" hR="5" stAng="16200000" swAng="-5400000"/>
                <a:lnTo>
                  <a:pt x="0" y="30585"/>
                </a:lnTo>
                <a:arcTo wR="5" hR="5" stAng="10800000" swAng="-5400000"/>
                <a:lnTo>
                  <a:pt x="21595" y="305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6858000" cy="9712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12440"/>
              <a:gd name="textAreaBottom" fmla="*/ 9712080 h 9712440"/>
            </a:gdLst>
            <a:ahLst/>
            <a:rect l="textAreaLeft" t="textAreaTop" r="textAreaRight" b="textAreaBottom"/>
            <a:pathLst>
              <a:path w="21600" h="30590">
                <a:moveTo>
                  <a:pt x="5" y="0"/>
                </a:moveTo>
                <a:arcTo wR="5" hR="5" stAng="16200000" swAng="-5400000"/>
                <a:lnTo>
                  <a:pt x="0" y="30585"/>
                </a:lnTo>
                <a:arcTo wR="5" hR="5" stAng="10800000" swAng="-5400000"/>
                <a:lnTo>
                  <a:pt x="21595" y="305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6858000" cy="9712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12440"/>
              <a:gd name="textAreaBottom" fmla="*/ 9712080 h 9712440"/>
            </a:gdLst>
            <a:ahLst/>
            <a:rect l="textAreaLeft" t="textAreaTop" r="textAreaRight" b="textAreaBottom"/>
            <a:pathLst>
              <a:path w="21600" h="30590">
                <a:moveTo>
                  <a:pt x="5" y="0"/>
                </a:moveTo>
                <a:arcTo wR="5" hR="5" stAng="16200000" swAng="-5400000"/>
                <a:lnTo>
                  <a:pt x="0" y="30585"/>
                </a:lnTo>
                <a:arcTo wR="5" hR="5" stAng="10800000" swAng="-5400000"/>
                <a:lnTo>
                  <a:pt x="21595" y="305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6858000" cy="9712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12440"/>
              <a:gd name="textAreaBottom" fmla="*/ 9712080 h 9712440"/>
            </a:gdLst>
            <a:ahLst/>
            <a:rect l="textAreaLeft" t="textAreaTop" r="textAreaRight" b="textAreaBottom"/>
            <a:pathLst>
              <a:path w="21600" h="30590">
                <a:moveTo>
                  <a:pt x="5" y="0"/>
                </a:moveTo>
                <a:arcTo wR="5" hR="5" stAng="16200000" swAng="-5400000"/>
                <a:lnTo>
                  <a:pt x="0" y="30585"/>
                </a:lnTo>
                <a:arcTo wR="5" hR="5" stAng="10800000" swAng="-5400000"/>
                <a:lnTo>
                  <a:pt x="21595" y="305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6858000" cy="9712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12440"/>
              <a:gd name="textAreaBottom" fmla="*/ 9712080 h 9712440"/>
            </a:gdLst>
            <a:ahLst/>
            <a:rect l="textAreaLeft" t="textAreaTop" r="textAreaRight" b="textAreaBottom"/>
            <a:pathLst>
              <a:path w="21600" h="30590">
                <a:moveTo>
                  <a:pt x="5" y="0"/>
                </a:moveTo>
                <a:arcTo wR="5" hR="5" stAng="16200000" swAng="-5400000"/>
                <a:lnTo>
                  <a:pt x="0" y="30585"/>
                </a:lnTo>
                <a:arcTo wR="5" hR="5" stAng="10800000" swAng="-5400000"/>
                <a:lnTo>
                  <a:pt x="21595" y="305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6858000" cy="9712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12440"/>
              <a:gd name="textAreaBottom" fmla="*/ 9712080 h 9712440"/>
            </a:gdLst>
            <a:ahLst/>
            <a:rect l="textAreaLeft" t="textAreaTop" r="textAreaRight" b="textAreaBottom"/>
            <a:pathLst>
              <a:path w="21600" h="30590">
                <a:moveTo>
                  <a:pt x="5" y="0"/>
                </a:moveTo>
                <a:arcTo wR="5" hR="5" stAng="16200000" swAng="-5400000"/>
                <a:lnTo>
                  <a:pt x="0" y="30585"/>
                </a:lnTo>
                <a:arcTo wR="5" hR="5" stAng="10800000" swAng="-5400000"/>
                <a:lnTo>
                  <a:pt x="21595" y="305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6858000" cy="9712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12440"/>
              <a:gd name="textAreaBottom" fmla="*/ 9712080 h 9712440"/>
            </a:gdLst>
            <a:ahLst/>
            <a:rect l="textAreaLeft" t="textAreaTop" r="textAreaRight" b="textAreaBottom"/>
            <a:pathLst>
              <a:path w="21600" h="30590">
                <a:moveTo>
                  <a:pt x="5" y="0"/>
                </a:moveTo>
                <a:arcTo wR="5" hR="5" stAng="16200000" swAng="-5400000"/>
                <a:lnTo>
                  <a:pt x="0" y="30585"/>
                </a:lnTo>
                <a:arcTo wR="5" hR="5" stAng="10800000" swAng="-5400000"/>
                <a:lnTo>
                  <a:pt x="21595" y="305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6858000" cy="9712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12440"/>
              <a:gd name="textAreaBottom" fmla="*/ 9712080 h 9712440"/>
            </a:gdLst>
            <a:ahLst/>
            <a:rect l="textAreaLeft" t="textAreaTop" r="textAreaRight" b="textAreaBottom"/>
            <a:pathLst>
              <a:path w="21600" h="30590">
                <a:moveTo>
                  <a:pt x="5" y="0"/>
                </a:moveTo>
                <a:arcTo wR="5" hR="5" stAng="16200000" swAng="-5400000"/>
                <a:lnTo>
                  <a:pt x="0" y="30585"/>
                </a:lnTo>
                <a:arcTo wR="5" hR="5" stAng="10800000" swAng="-5400000"/>
                <a:lnTo>
                  <a:pt x="21595" y="305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6858000" cy="9712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12440"/>
              <a:gd name="textAreaBottom" fmla="*/ 9712080 h 9712440"/>
            </a:gdLst>
            <a:ahLst/>
            <a:rect l="textAreaLeft" t="textAreaTop" r="textAreaRight" b="textAreaBottom"/>
            <a:pathLst>
              <a:path w="21600" h="30590">
                <a:moveTo>
                  <a:pt x="5" y="0"/>
                </a:moveTo>
                <a:arcTo wR="5" hR="5" stAng="16200000" swAng="-5400000"/>
                <a:lnTo>
                  <a:pt x="0" y="30585"/>
                </a:lnTo>
                <a:arcTo wR="5" hR="5" stAng="10800000" swAng="-5400000"/>
                <a:lnTo>
                  <a:pt x="21595" y="305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6858000" cy="9712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12440"/>
              <a:gd name="textAreaBottom" fmla="*/ 9712080 h 9712440"/>
            </a:gdLst>
            <a:ahLst/>
            <a:rect l="textAreaLeft" t="textAreaTop" r="textAreaRight" b="textAreaBottom"/>
            <a:pathLst>
              <a:path w="21600" h="30590">
                <a:moveTo>
                  <a:pt x="5" y="0"/>
                </a:moveTo>
                <a:arcTo wR="5" hR="5" stAng="16200000" swAng="-5400000"/>
                <a:lnTo>
                  <a:pt x="0" y="30585"/>
                </a:lnTo>
                <a:arcTo wR="5" hR="5" stAng="10800000" swAng="-5400000"/>
                <a:lnTo>
                  <a:pt x="21595" y="305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6858000" cy="9712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12440"/>
              <a:gd name="textAreaBottom" fmla="*/ 9712080 h 9712440"/>
            </a:gdLst>
            <a:ahLst/>
            <a:rect l="textAreaLeft" t="textAreaTop" r="textAreaRight" b="textAreaBottom"/>
            <a:pathLst>
              <a:path w="21600" h="30590">
                <a:moveTo>
                  <a:pt x="5" y="0"/>
                </a:moveTo>
                <a:arcTo wR="5" hR="5" stAng="16200000" swAng="-5400000"/>
                <a:lnTo>
                  <a:pt x="0" y="30585"/>
                </a:lnTo>
                <a:arcTo wR="5" hR="5" stAng="10800000" swAng="-5400000"/>
                <a:lnTo>
                  <a:pt x="21595" y="305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6858000" cy="9712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12440"/>
              <a:gd name="textAreaBottom" fmla="*/ 9712080 h 9712440"/>
            </a:gdLst>
            <a:ahLst/>
            <a:rect l="textAreaLeft" t="textAreaTop" r="textAreaRight" b="textAreaBottom"/>
            <a:pathLst>
              <a:path w="21600" h="30590">
                <a:moveTo>
                  <a:pt x="5" y="0"/>
                </a:moveTo>
                <a:arcTo wR="5" hR="5" stAng="16200000" swAng="-5400000"/>
                <a:lnTo>
                  <a:pt x="0" y="30585"/>
                </a:lnTo>
                <a:arcTo wR="5" hR="5" stAng="10800000" swAng="-5400000"/>
                <a:lnTo>
                  <a:pt x="21595" y="305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6858000" cy="9712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12440"/>
              <a:gd name="textAreaBottom" fmla="*/ 9712080 h 9712440"/>
            </a:gdLst>
            <a:ahLst/>
            <a:rect l="textAreaLeft" t="textAreaTop" r="textAreaRight" b="textAreaBottom"/>
            <a:pathLst>
              <a:path w="21600" h="30590">
                <a:moveTo>
                  <a:pt x="5" y="0"/>
                </a:moveTo>
                <a:arcTo wR="5" hR="5" stAng="16200000" swAng="-5400000"/>
                <a:lnTo>
                  <a:pt x="0" y="30585"/>
                </a:lnTo>
                <a:arcTo wR="5" hR="5" stAng="10800000" swAng="-5400000"/>
                <a:lnTo>
                  <a:pt x="21595" y="305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6858000" cy="9712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12440"/>
              <a:gd name="textAreaBottom" fmla="*/ 9712080 h 9712440"/>
            </a:gdLst>
            <a:ahLst/>
            <a:rect l="textAreaLeft" t="textAreaTop" r="textAreaRight" b="textAreaBottom"/>
            <a:pathLst>
              <a:path w="21600" h="30590">
                <a:moveTo>
                  <a:pt x="5" y="0"/>
                </a:moveTo>
                <a:arcTo wR="5" hR="5" stAng="16200000" swAng="-5400000"/>
                <a:lnTo>
                  <a:pt x="0" y="30585"/>
                </a:lnTo>
                <a:arcTo wR="5" hR="5" stAng="10800000" swAng="-5400000"/>
                <a:lnTo>
                  <a:pt x="21595" y="305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6858000" cy="9712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12440"/>
              <a:gd name="textAreaBottom" fmla="*/ 9712080 h 9712440"/>
            </a:gdLst>
            <a:ahLst/>
            <a:rect l="textAreaLeft" t="textAreaTop" r="textAreaRight" b="textAreaBottom"/>
            <a:pathLst>
              <a:path w="21600" h="30590">
                <a:moveTo>
                  <a:pt x="5" y="0"/>
                </a:moveTo>
                <a:arcTo wR="5" hR="5" stAng="16200000" swAng="-5400000"/>
                <a:lnTo>
                  <a:pt x="0" y="30585"/>
                </a:lnTo>
                <a:arcTo wR="5" hR="5" stAng="10800000" swAng="-5400000"/>
                <a:lnTo>
                  <a:pt x="21595" y="305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6858000" cy="9712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12440"/>
              <a:gd name="textAreaBottom" fmla="*/ 9712080 h 9712440"/>
            </a:gdLst>
            <a:ahLst/>
            <a:rect l="textAreaLeft" t="textAreaTop" r="textAreaRight" b="textAreaBottom"/>
            <a:pathLst>
              <a:path w="21600" h="30590">
                <a:moveTo>
                  <a:pt x="5" y="0"/>
                </a:moveTo>
                <a:arcTo wR="5" hR="5" stAng="16200000" swAng="-5400000"/>
                <a:lnTo>
                  <a:pt x="0" y="30585"/>
                </a:lnTo>
                <a:arcTo wR="5" hR="5" stAng="10800000" swAng="-5400000"/>
                <a:lnTo>
                  <a:pt x="21595" y="305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6858000" cy="9712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12440"/>
              <a:gd name="textAreaBottom" fmla="*/ 9712080 h 9712440"/>
            </a:gdLst>
            <a:ahLst/>
            <a:rect l="textAreaLeft" t="textAreaTop" r="textAreaRight" b="textAreaBottom"/>
            <a:pathLst>
              <a:path w="21600" h="30590">
                <a:moveTo>
                  <a:pt x="5" y="0"/>
                </a:moveTo>
                <a:arcTo wR="5" hR="5" stAng="16200000" swAng="-5400000"/>
                <a:lnTo>
                  <a:pt x="0" y="30585"/>
                </a:lnTo>
                <a:arcTo wR="5" hR="5" stAng="10800000" swAng="-5400000"/>
                <a:lnTo>
                  <a:pt x="21595" y="305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6856560" cy="9713880"/>
          </a:xfrm>
          <a:custGeom>
            <a:avLst/>
            <a:gdLst>
              <a:gd name="textAreaLeft" fmla="*/ 360 w 6856560"/>
              <a:gd name="textAreaRight" fmla="*/ 6856200 w 6856560"/>
              <a:gd name="textAreaTop" fmla="*/ 360 h 9713880"/>
              <a:gd name="textAreaBottom" fmla="*/ 9713520 h 9713880"/>
            </a:gdLst>
            <a:ahLst/>
            <a:rect l="textAreaLeft" t="textAreaTop" r="textAreaRight" b="textAreaBottom"/>
            <a:pathLst>
              <a:path w="21600" h="30601">
                <a:moveTo>
                  <a:pt x="5" y="0"/>
                </a:moveTo>
                <a:arcTo wR="5" hR="5" stAng="16200000" swAng="-5400000"/>
                <a:lnTo>
                  <a:pt x="0" y="30596"/>
                </a:lnTo>
                <a:arcTo wR="5" hR="5" stAng="10800000" swAng="-5400000"/>
                <a:lnTo>
                  <a:pt x="21595" y="3060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6856560" cy="9713880"/>
          </a:xfrm>
          <a:custGeom>
            <a:avLst/>
            <a:gdLst>
              <a:gd name="textAreaLeft" fmla="*/ 360 w 6856560"/>
              <a:gd name="textAreaRight" fmla="*/ 6856200 w 6856560"/>
              <a:gd name="textAreaTop" fmla="*/ 360 h 9713880"/>
              <a:gd name="textAreaBottom" fmla="*/ 9713520 h 9713880"/>
            </a:gdLst>
            <a:ahLst/>
            <a:rect l="textAreaLeft" t="textAreaTop" r="textAreaRight" b="textAreaBottom"/>
            <a:pathLst>
              <a:path w="21600" h="30601">
                <a:moveTo>
                  <a:pt x="5" y="0"/>
                </a:moveTo>
                <a:arcTo wR="5" hR="5" stAng="16200000" swAng="-5400000"/>
                <a:lnTo>
                  <a:pt x="0" y="30596"/>
                </a:lnTo>
                <a:arcTo wR="5" hR="5" stAng="10800000" swAng="-5400000"/>
                <a:lnTo>
                  <a:pt x="21595" y="3060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6854760" cy="9715680"/>
          </a:xfrm>
          <a:custGeom>
            <a:avLst/>
            <a:gdLst>
              <a:gd name="textAreaLeft" fmla="*/ 360 w 6854760"/>
              <a:gd name="textAreaRight" fmla="*/ 6854400 w 6854760"/>
              <a:gd name="textAreaTop" fmla="*/ 360 h 9715680"/>
              <a:gd name="textAreaBottom" fmla="*/ 9715320 h 9715680"/>
            </a:gdLst>
            <a:ahLst/>
            <a:rect l="textAreaLeft" t="textAreaTop" r="textAreaRight" b="textAreaBottom"/>
            <a:pathLst>
              <a:path w="21600" h="30615">
                <a:moveTo>
                  <a:pt x="5" y="0"/>
                </a:moveTo>
                <a:arcTo wR="5" hR="5" stAng="16200000" swAng="-5400000"/>
                <a:lnTo>
                  <a:pt x="0" y="30610"/>
                </a:lnTo>
                <a:arcTo wR="5" hR="5" stAng="10800000" swAng="-5400000"/>
                <a:lnTo>
                  <a:pt x="21595" y="3061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6854760" cy="9715680"/>
          </a:xfrm>
          <a:custGeom>
            <a:avLst/>
            <a:gdLst>
              <a:gd name="textAreaLeft" fmla="*/ 360 w 6854760"/>
              <a:gd name="textAreaRight" fmla="*/ 6854400 w 6854760"/>
              <a:gd name="textAreaTop" fmla="*/ 360 h 9715680"/>
              <a:gd name="textAreaBottom" fmla="*/ 9715320 h 9715680"/>
            </a:gdLst>
            <a:ahLst/>
            <a:rect l="textAreaLeft" t="textAreaTop" r="textAreaRight" b="textAreaBottom"/>
            <a:pathLst>
              <a:path w="21600" h="30615">
                <a:moveTo>
                  <a:pt x="5" y="0"/>
                </a:moveTo>
                <a:arcTo wR="5" hR="5" stAng="16200000" swAng="-5400000"/>
                <a:lnTo>
                  <a:pt x="0" y="30610"/>
                </a:lnTo>
                <a:arcTo wR="5" hR="5" stAng="10800000" swAng="-5400000"/>
                <a:lnTo>
                  <a:pt x="21595" y="3061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6853320" cy="9718560"/>
          </a:xfrm>
          <a:custGeom>
            <a:avLst/>
            <a:gdLst>
              <a:gd name="textAreaLeft" fmla="*/ 360 w 6853320"/>
              <a:gd name="textAreaRight" fmla="*/ 6852960 w 6853320"/>
              <a:gd name="textAreaTop" fmla="*/ 360 h 9718560"/>
              <a:gd name="textAreaBottom" fmla="*/ 9718200 h 9718560"/>
            </a:gdLst>
            <a:ahLst/>
            <a:rect l="textAreaLeft" t="textAreaTop" r="textAreaRight" b="textAreaBottom"/>
            <a:pathLst>
              <a:path w="21600" h="30630">
                <a:moveTo>
                  <a:pt x="5" y="0"/>
                </a:moveTo>
                <a:arcTo wR="5" hR="5" stAng="16200000" swAng="-5400000"/>
                <a:lnTo>
                  <a:pt x="0" y="30625"/>
                </a:lnTo>
                <a:arcTo wR="5" hR="5" stAng="10800000" swAng="-5400000"/>
                <a:lnTo>
                  <a:pt x="21595" y="3063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6853320" cy="9718560"/>
          </a:xfrm>
          <a:custGeom>
            <a:avLst/>
            <a:gdLst>
              <a:gd name="textAreaLeft" fmla="*/ 360 w 6853320"/>
              <a:gd name="textAreaRight" fmla="*/ 6852960 w 6853320"/>
              <a:gd name="textAreaTop" fmla="*/ 360 h 9718560"/>
              <a:gd name="textAreaBottom" fmla="*/ 9718200 h 9718560"/>
            </a:gdLst>
            <a:ahLst/>
            <a:rect l="textAreaLeft" t="textAreaTop" r="textAreaRight" b="textAreaBottom"/>
            <a:pathLst>
              <a:path w="21600" h="30630">
                <a:moveTo>
                  <a:pt x="5" y="0"/>
                </a:moveTo>
                <a:arcTo wR="5" hR="5" stAng="16200000" swAng="-5400000"/>
                <a:lnTo>
                  <a:pt x="0" y="30625"/>
                </a:lnTo>
                <a:arcTo wR="5" hR="5" stAng="10800000" swAng="-5400000"/>
                <a:lnTo>
                  <a:pt x="21595" y="3063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1924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3"/>
          </p:nvPr>
        </p:nvSpPr>
        <p:spPr>
          <a:xfrm>
            <a:off x="3879720" y="0"/>
            <a:ext cx="29196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96840" y="728280"/>
            <a:ext cx="480384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914040" y="4614840"/>
            <a:ext cx="497052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4"/>
          </p:nvPr>
        </p:nvSpPr>
        <p:spPr>
          <a:xfrm>
            <a:off x="-360" y="9232920"/>
            <a:ext cx="291924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5"/>
          </p:nvPr>
        </p:nvSpPr>
        <p:spPr>
          <a:xfrm>
            <a:off x="3879720" y="9232920"/>
            <a:ext cx="29196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B2E675-083A-46FB-B2C2-356C1E71C58A}" type="slidenum">
              <a:rPr b="0" lang="en-GB" sz="12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998640" y="728640"/>
            <a:ext cx="4852800" cy="3643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body"/>
          </p:nvPr>
        </p:nvSpPr>
        <p:spPr>
          <a:xfrm>
            <a:off x="914400" y="4614480"/>
            <a:ext cx="498312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998640" y="728640"/>
            <a:ext cx="4852800" cy="3643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914400" y="4614480"/>
            <a:ext cx="498312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998640" y="728640"/>
            <a:ext cx="4852800" cy="3643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914400" y="4614480"/>
            <a:ext cx="498312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998640" y="728640"/>
            <a:ext cx="4852800" cy="3643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914400" y="4614480"/>
            <a:ext cx="498312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998640" y="728640"/>
            <a:ext cx="4852800" cy="3643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914400" y="4614480"/>
            <a:ext cx="498312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998640" y="728640"/>
            <a:ext cx="4852800" cy="3643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914400" y="4614480"/>
            <a:ext cx="498312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998640" y="728640"/>
            <a:ext cx="4852800" cy="3643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914400" y="4614480"/>
            <a:ext cx="498312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998640" y="728640"/>
            <a:ext cx="4852800" cy="3643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914400" y="4614480"/>
            <a:ext cx="498312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998640" y="728640"/>
            <a:ext cx="4854600" cy="3643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914400" y="4614480"/>
            <a:ext cx="498312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998640" y="728640"/>
            <a:ext cx="4852800" cy="3643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body"/>
          </p:nvPr>
        </p:nvSpPr>
        <p:spPr>
          <a:xfrm>
            <a:off x="914400" y="4614480"/>
            <a:ext cx="498312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998640" y="728640"/>
            <a:ext cx="4852800" cy="3643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914400" y="4614480"/>
            <a:ext cx="498312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998640" y="728640"/>
            <a:ext cx="4854600" cy="3643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body"/>
          </p:nvPr>
        </p:nvSpPr>
        <p:spPr>
          <a:xfrm>
            <a:off x="914400" y="4614480"/>
            <a:ext cx="498312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998640" y="728640"/>
            <a:ext cx="4852800" cy="3643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body"/>
          </p:nvPr>
        </p:nvSpPr>
        <p:spPr>
          <a:xfrm>
            <a:off x="914400" y="4614480"/>
            <a:ext cx="498312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998640" y="728640"/>
            <a:ext cx="4852800" cy="3643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body"/>
          </p:nvPr>
        </p:nvSpPr>
        <p:spPr>
          <a:xfrm>
            <a:off x="914400" y="4614480"/>
            <a:ext cx="498312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998640" y="728640"/>
            <a:ext cx="4849560" cy="36403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914400" y="4614480"/>
            <a:ext cx="498312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998640" y="728640"/>
            <a:ext cx="4852800" cy="3643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body"/>
          </p:nvPr>
        </p:nvSpPr>
        <p:spPr>
          <a:xfrm>
            <a:off x="914400" y="4614480"/>
            <a:ext cx="498312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998640" y="728640"/>
            <a:ext cx="4852800" cy="3643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914400" y="4614480"/>
            <a:ext cx="498312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998640" y="728640"/>
            <a:ext cx="4852800" cy="3643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914400" y="4614480"/>
            <a:ext cx="498312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998640" y="728640"/>
            <a:ext cx="4852800" cy="3643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body"/>
          </p:nvPr>
        </p:nvSpPr>
        <p:spPr>
          <a:xfrm>
            <a:off x="914400" y="4614480"/>
            <a:ext cx="498312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998640" y="728640"/>
            <a:ext cx="4854600" cy="3643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914400" y="4614480"/>
            <a:ext cx="498312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998640" y="728640"/>
            <a:ext cx="4852800" cy="3643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914400" y="4614480"/>
            <a:ext cx="498312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998640" y="728640"/>
            <a:ext cx="4852800" cy="3643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body"/>
          </p:nvPr>
        </p:nvSpPr>
        <p:spPr>
          <a:xfrm>
            <a:off x="914400" y="4614480"/>
            <a:ext cx="498312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998640" y="728640"/>
            <a:ext cx="4854600" cy="3643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body"/>
          </p:nvPr>
        </p:nvSpPr>
        <p:spPr>
          <a:xfrm>
            <a:off x="914400" y="4614480"/>
            <a:ext cx="498312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998640" y="728640"/>
            <a:ext cx="4852800" cy="3643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body"/>
          </p:nvPr>
        </p:nvSpPr>
        <p:spPr>
          <a:xfrm>
            <a:off x="914400" y="4614480"/>
            <a:ext cx="498312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998640" y="728640"/>
            <a:ext cx="4852800" cy="3643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914400" y="4614480"/>
            <a:ext cx="498312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998640" y="728640"/>
            <a:ext cx="4852800" cy="3643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body"/>
          </p:nvPr>
        </p:nvSpPr>
        <p:spPr>
          <a:xfrm>
            <a:off x="914400" y="4614480"/>
            <a:ext cx="498312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998640" y="728640"/>
            <a:ext cx="4852800" cy="3643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914400" y="4614480"/>
            <a:ext cx="498312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998640" y="728640"/>
            <a:ext cx="4849560" cy="36403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914400" y="4614480"/>
            <a:ext cx="498312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998640" y="728640"/>
            <a:ext cx="4849560" cy="36403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body"/>
          </p:nvPr>
        </p:nvSpPr>
        <p:spPr>
          <a:xfrm>
            <a:off x="914400" y="4614480"/>
            <a:ext cx="498312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998640" y="728640"/>
            <a:ext cx="4852800" cy="3643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914400" y="4614480"/>
            <a:ext cx="498312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998640" y="728640"/>
            <a:ext cx="4852800" cy="3643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body"/>
          </p:nvPr>
        </p:nvSpPr>
        <p:spPr>
          <a:xfrm>
            <a:off x="914400" y="4614480"/>
            <a:ext cx="498312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998640" y="728640"/>
            <a:ext cx="4852800" cy="3643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914400" y="4614480"/>
            <a:ext cx="498312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998640" y="728640"/>
            <a:ext cx="4852800" cy="3643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914400" y="4614480"/>
            <a:ext cx="498312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998640" y="728640"/>
            <a:ext cx="4854600" cy="3643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body"/>
          </p:nvPr>
        </p:nvSpPr>
        <p:spPr>
          <a:xfrm>
            <a:off x="914400" y="4614480"/>
            <a:ext cx="498312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998640" y="728640"/>
            <a:ext cx="4852800" cy="3643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914400" y="4614480"/>
            <a:ext cx="498312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998640" y="728640"/>
            <a:ext cx="4854600" cy="3643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914400" y="4614480"/>
            <a:ext cx="498312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998640" y="728640"/>
            <a:ext cx="4854600" cy="3643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914400" y="4614480"/>
            <a:ext cx="498312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998640" y="728640"/>
            <a:ext cx="4854600" cy="3643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body"/>
          </p:nvPr>
        </p:nvSpPr>
        <p:spPr>
          <a:xfrm>
            <a:off x="914400" y="4614480"/>
            <a:ext cx="498312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998640" y="728640"/>
            <a:ext cx="4854600" cy="3643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body"/>
          </p:nvPr>
        </p:nvSpPr>
        <p:spPr>
          <a:xfrm>
            <a:off x="914400" y="4614480"/>
            <a:ext cx="498312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998640" y="728640"/>
            <a:ext cx="4852800" cy="3643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914400" y="4614480"/>
            <a:ext cx="498312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998640" y="728640"/>
            <a:ext cx="4852800" cy="3643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body"/>
          </p:nvPr>
        </p:nvSpPr>
        <p:spPr>
          <a:xfrm>
            <a:off x="914400" y="4614480"/>
            <a:ext cx="498312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998640" y="728640"/>
            <a:ext cx="4852800" cy="3643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body"/>
          </p:nvPr>
        </p:nvSpPr>
        <p:spPr>
          <a:xfrm>
            <a:off x="914400" y="4614480"/>
            <a:ext cx="498312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998640" y="728640"/>
            <a:ext cx="4852800" cy="3643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914400" y="4614480"/>
            <a:ext cx="498312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998640" y="728640"/>
            <a:ext cx="4852800" cy="3643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914400" y="4614480"/>
            <a:ext cx="498312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998640" y="728640"/>
            <a:ext cx="4852800" cy="3643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914400" y="4614480"/>
            <a:ext cx="498312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998640" y="728640"/>
            <a:ext cx="4852800" cy="3643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body"/>
          </p:nvPr>
        </p:nvSpPr>
        <p:spPr>
          <a:xfrm>
            <a:off x="914400" y="4614480"/>
            <a:ext cx="498312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998640" y="728640"/>
            <a:ext cx="4852800" cy="3643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914400" y="4614480"/>
            <a:ext cx="498312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1000080" y="728640"/>
            <a:ext cx="4859280" cy="3643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body"/>
          </p:nvPr>
        </p:nvSpPr>
        <p:spPr>
          <a:xfrm>
            <a:off x="914400" y="4614840"/>
            <a:ext cx="4997520" cy="43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998640" y="728640"/>
            <a:ext cx="4857480" cy="3643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body"/>
          </p:nvPr>
        </p:nvSpPr>
        <p:spPr>
          <a:xfrm>
            <a:off x="914400" y="4614840"/>
            <a:ext cx="4997520" cy="43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998640" y="728640"/>
            <a:ext cx="4852800" cy="3643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914400" y="4614480"/>
            <a:ext cx="498312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998640" y="728640"/>
            <a:ext cx="4852800" cy="3643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914400" y="4614480"/>
            <a:ext cx="498312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998640" y="728640"/>
            <a:ext cx="4852800" cy="3643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914400" y="4614480"/>
            <a:ext cx="498312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998640" y="728640"/>
            <a:ext cx="4852800" cy="3643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914400" y="4614480"/>
            <a:ext cx="498312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26E35-72C3-4C9D-B066-16C3E411E9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7202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2440"/>
            <a:ext cx="771984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594600"/>
            <a:ext cx="771984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1FCD3-11E1-4BDF-9A3F-ADE460EEFE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7202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522440"/>
            <a:ext cx="376704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41480" y="1522440"/>
            <a:ext cx="376704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594600"/>
            <a:ext cx="376704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41480" y="3594600"/>
            <a:ext cx="376704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FD521-BADC-4C47-8B17-99A7686098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7202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522440"/>
            <a:ext cx="248544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95800" y="1522440"/>
            <a:ext cx="248544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06160" y="1522440"/>
            <a:ext cx="248544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594600"/>
            <a:ext cx="248544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95800" y="3594600"/>
            <a:ext cx="248544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06160" y="3594600"/>
            <a:ext cx="248544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BEC3B-C28F-48E1-A5C8-A01BF2C232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7202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522440"/>
            <a:ext cx="771984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C6169-828B-4C4E-963A-0C5CCCEC66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7202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522440"/>
            <a:ext cx="771984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F8EFE-C285-4DBB-850F-950D27CCE5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7202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2440"/>
            <a:ext cx="376704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1480" y="1522440"/>
            <a:ext cx="376704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86132-5A56-4C8A-B12B-CEAF083CF2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7202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943B0-9A11-4051-ABEE-AF261E0147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304560"/>
            <a:ext cx="7720200" cy="47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21EC9-30A2-4BD8-AED1-820194C88A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7202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522440"/>
            <a:ext cx="376704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1480" y="1522440"/>
            <a:ext cx="376704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594600"/>
            <a:ext cx="376704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0E9B7-EDB2-4C23-A554-E267294F48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7202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522440"/>
            <a:ext cx="376704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1480" y="1522440"/>
            <a:ext cx="376704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41480" y="3594600"/>
            <a:ext cx="376704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BBFAF-9D85-41EF-9264-D8FF8971C7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7202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22440"/>
            <a:ext cx="376704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1480" y="1522440"/>
            <a:ext cx="376704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594600"/>
            <a:ext cx="771984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D02E6-58D2-4438-9226-EEA3D1234E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7202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2440"/>
            <a:ext cx="771984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just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12120" indent="-312120" algn="just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312120" indent="-312120" algn="just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312120" indent="-312120" algn="just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312120" indent="-312120" algn="just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312120" indent="-312120" algn="just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312120" indent="-312120" algn="just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4328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2400" spc="-1" strike="noStrike">
                <a:solidFill>
                  <a:srgbClr val="000000"/>
                </a:solidFill>
                <a:latin typeface="Bitstream Vera Sans"/>
              </a:defRPr>
            </a:lvl1pPr>
          </a:lstStyle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179280" y="6300360"/>
            <a:ext cx="65736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2400" spc="-1" strike="noStrike">
                <a:solidFill>
                  <a:srgbClr val="000000"/>
                </a:solidFill>
                <a:latin typeface="Bitstream Vera Sans"/>
              </a:defRPr>
            </a:lvl1pPr>
          </a:lstStyle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37350D-5131-449E-B257-A5C4A32B2323}" type="slidenum"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1676520"/>
            <a:ext cx="76960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676520"/>
            <a:ext cx="76960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"/>
          <p:cNvSpPr/>
          <p:nvPr/>
        </p:nvSpPr>
        <p:spPr>
          <a:xfrm>
            <a:off x="609480" y="1295280"/>
            <a:ext cx="7925040" cy="1800"/>
          </a:xfrm>
          <a:prstGeom prst="line">
            <a:avLst/>
          </a:prstGeom>
          <a:ln cap="sq"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" name=""/>
          <p:cNvSpPr/>
          <p:nvPr/>
        </p:nvSpPr>
        <p:spPr>
          <a:xfrm>
            <a:off x="3643200" y="291924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9334" t="0" r="0" b="7820"/>
          <a:stretch/>
        </p:blipFill>
        <p:spPr>
          <a:xfrm>
            <a:off x="7948440" y="5943600"/>
            <a:ext cx="1067040" cy="65556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304920" y="380880"/>
            <a:ext cx="685800" cy="498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338040"/>
            <a:ext cx="5257800" cy="57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Trovare lavoro nel</a:t>
            </a: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4000" spc="-1" strike="noStrike">
                <a:solidFill>
                  <a:srgbClr val="ff0000"/>
                </a:solidFill>
                <a:latin typeface="Bitstream Vera Sans"/>
              </a:rPr>
              <a:t>RE</a:t>
            </a:r>
            <a:r>
              <a:rPr b="1" lang="en-GB" sz="4000" spc="-1" strike="noStrike">
                <a:solidFill>
                  <a:srgbClr val="3333cc"/>
                </a:solidFill>
                <a:latin typeface="Bitstream Vera Sans"/>
              </a:rPr>
              <a:t>GN</a:t>
            </a:r>
            <a:r>
              <a:rPr b="1" lang="en-GB" sz="4000" spc="-1" strike="noStrike">
                <a:solidFill>
                  <a:srgbClr val="ff0000"/>
                </a:solidFill>
                <a:latin typeface="Bitstream Vera Sans"/>
              </a:rPr>
              <a:t>O</a:t>
            </a:r>
            <a:r>
              <a:rPr b="1" lang="en-GB" sz="4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4000" spc="-1" strike="noStrike">
                <a:solidFill>
                  <a:srgbClr val="ff0000"/>
                </a:solidFill>
                <a:latin typeface="Bitstream Vera Sans"/>
              </a:rPr>
              <a:t>U</a:t>
            </a:r>
            <a:r>
              <a:rPr b="1" lang="en-GB" sz="4000" spc="-1" strike="noStrike">
                <a:solidFill>
                  <a:srgbClr val="3333cc"/>
                </a:solidFill>
                <a:latin typeface="Bitstream Vera Sans"/>
              </a:rPr>
              <a:t>NI</a:t>
            </a:r>
            <a:r>
              <a:rPr b="1" lang="en-GB" sz="4000" spc="-1" strike="noStrike">
                <a:solidFill>
                  <a:srgbClr val="000000"/>
                </a:solidFill>
                <a:latin typeface="Bitstream Vera Sans"/>
              </a:rPr>
              <a:t>TO</a:t>
            </a: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Bernd Faas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Career Counsellor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095880" y="1828800"/>
            <a:ext cx="2519640" cy="33148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4028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AGENZIE DI COLLOCAMENTO PRIVATE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10800"/>
            <a:ext cx="7772400" cy="771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Bitstream Vera Sans"/>
              <a:buChar char="•"/>
              <a:tabLst>
                <a:tab algn="l" pos="29052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Migliaia di agenzie di lavoro interinale e a tempo indeterminato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290520" indent="-29052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Bitstream Vera Sans"/>
              <a:buChar char="•"/>
              <a:tabLst>
                <a:tab algn="l" pos="29052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resenti a livello internazionale come Adecco, Randstad oppure solo a livello nazionale o locale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290520" indent="-29052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Bitstream Vera Sans"/>
              <a:buChar char="•"/>
              <a:tabLst>
                <a:tab algn="l" pos="29052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Agenzie per tutte le professioni oppure specializzate  per settore (alberghiero, sanità, artigianato, informatica ecc)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290520" indent="-29052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Bitstream Vera Sans"/>
              <a:buChar char="•"/>
              <a:tabLst>
                <a:tab algn="l" pos="29052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Spesso è possibile candidarsi on-line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290520" indent="-29052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Bitstream Vera Sans"/>
              <a:buChar char="•"/>
              <a:tabLst>
                <a:tab algn="l" pos="29052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È necessario un colloquio in loco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290520" indent="-29052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Bitstream Vera Sans"/>
              <a:buChar char="•"/>
              <a:tabLst>
                <a:tab algn="l" pos="29052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Servizio gratuito per il lavoratore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75B9F-7F91-446B-8CF9-98EBD137460C}" type="slidenum">
              <a:t>10</a:t>
            </a:fld>
          </a:p>
        </p:txBody>
      </p:sp>
    </p:spTree>
  </p:cSld>
  <p:transition spd="med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4028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AGENZIE DI COLLOCAMENTO PRIVATE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22080"/>
            <a:ext cx="7772400" cy="82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Elenco delle</a:t>
            </a:r>
            <a:r>
              <a:rPr b="0" lang="en-GB" sz="4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agenzie</a:t>
            </a: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www.rec.uk.com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just">
              <a:lnSpc>
                <a:spcPct val="2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Motore di ricerca per individuare l’agenzia giusta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- Nella località desiderata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Bitstream Vera Sans"/>
              <a:buChar char="-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er la propria professione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just">
              <a:lnSpc>
                <a:spcPct val="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www.jobseekers-uk.com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45383-5E43-4E41-A456-9DBF06EB28B5}" type="slidenum">
              <a:t>11</a:t>
            </a:fld>
          </a:p>
        </p:txBody>
      </p:sp>
    </p:spTree>
  </p:cSld>
  <p:transition spd="med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345600"/>
            <a:ext cx="77724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PUBBLICO IMPIEGO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5080" y="1523880"/>
            <a:ext cx="8134200" cy="69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 algn="just">
              <a:lnSpc>
                <a:spcPct val="2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Solo settori come sicurezza interna ed esercito richiedono la cittadinanza britannica.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just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ctr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itstream Vera Sans"/>
              </a:rPr>
              <a:t>www.careers.civil-service.gov.uk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A9163-F060-43F2-8C36-7DA8B3E2570B}" type="slidenum">
              <a:t>12</a:t>
            </a:fld>
          </a:p>
        </p:txBody>
      </p:sp>
    </p:spTree>
  </p:cSld>
  <p:transition spd="med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345600"/>
            <a:ext cx="77724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SETTORE SOCIALE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67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 algn="just">
              <a:lnSpc>
                <a:spcPct val="13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In passato numerose opportunità per operatori stranieri con esperienza. I tagli previsti dal governo attuale possono comportare forti riduzioni.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just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ctr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www.socialworkcareers.co.uk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8732A-2DFC-4C12-8122-AFC621E476BC}" type="slidenum">
              <a:t>13</a:t>
            </a:fld>
          </a:p>
        </p:txBody>
      </p:sp>
    </p:spTree>
  </p:cSld>
  <p:transition spd="med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345600"/>
            <a:ext cx="77724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SETTORE DELL’ISTRUZIONE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774800"/>
            <a:ext cx="7772400" cy="56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 algn="just">
              <a:lnSpc>
                <a:spcPct val="13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- sia scuola pubblica che privata 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just">
              <a:lnSpc>
                <a:spcPct val="13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- mancanza di docenti di materie professionali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just">
              <a:lnSpc>
                <a:spcPct val="13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- incertezza sui tagli previsti dal governo 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just">
              <a:lnSpc>
                <a:spcPct val="13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ctr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itstream Vera Sans"/>
              </a:rPr>
              <a:t>www.gtce.org.uk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FF34D-3DAD-4F9B-8DBB-59147E893B22}" type="slidenum">
              <a:t>14</a:t>
            </a:fld>
          </a:p>
        </p:txBody>
      </p:sp>
    </p:spTree>
  </p:cSld>
  <p:transition spd="med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345600"/>
            <a:ext cx="77724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LAVORARE CON ITALIANO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7240" y="1465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 algn="just">
              <a:lnSpc>
                <a:spcPct val="13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itstream Vera Sans"/>
              </a:rPr>
              <a:t>L’italiano serve in vari contesti: azienda, scuola, call centre, negozi, agenzia di reclutamento. 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just">
              <a:lnSpc>
                <a:spcPct val="13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ctr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itstream Vera Sans"/>
              </a:rPr>
              <a:t>www.toplanguagejobs.co.uk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ctr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itstream Vera Sans"/>
              </a:rPr>
              <a:t>www.bilingualpeople.co.uk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A18A8-8CFB-4D6E-B104-55C5831CB88F}" type="slidenum">
              <a:t>15</a:t>
            </a:fld>
          </a:p>
        </p:txBody>
      </p:sp>
    </p:spTree>
  </p:cSld>
  <p:transition spd="med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345600"/>
            <a:ext cx="77724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SETTORE DELLA CULTURA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2440"/>
            <a:ext cx="7772400" cy="796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 algn="just">
              <a:lnSpc>
                <a:spcPct val="17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Cultura è business: esiste una forte richiesta da parte dei cittadini e porta più turisti stranieri. Complessivamente impiega circa 1 milioni di persone.  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ctr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www.ccskills.org.uk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ctr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www.artscouncil.org.uk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55FC2-29FE-47AF-A3B8-B9CD1708F932}" type="slidenum">
              <a:t>16</a:t>
            </a:fld>
          </a:p>
        </p:txBody>
      </p:sp>
    </p:spTree>
  </p:cSld>
  <p:transition spd="med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345600"/>
            <a:ext cx="77724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Bitstream Vera Sans"/>
              </a:rPr>
              <a:t>SETTORE DELLA SANITA’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28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7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Buone opportunita´nel National Health Service per personale qualificato straniero. 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 algn="just">
              <a:lnSpc>
                <a:spcPct val="3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 algn="ctr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Bitstream Vera Sans"/>
              </a:rPr>
              <a:t>www.bma.co.uk (medici)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 algn="ctr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 algn="ctr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Bitstream Vera Sans"/>
              </a:rPr>
              <a:t>ww</a:t>
            </a:r>
            <a:r>
              <a:rPr b="1" lang="en-GB" sz="3200" spc="-1" strike="noStrike">
                <a:solidFill>
                  <a:srgbClr val="000000"/>
                </a:solidFill>
                <a:latin typeface="Bitstream Vera Sans"/>
              </a:rPr>
              <a:t>w.bna.co.uk (infermieri)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6EE20-A1F3-4DA2-B89F-4A745BFB20EA}" type="slidenum">
              <a:t>17</a:t>
            </a:fld>
          </a:p>
        </p:txBody>
      </p:sp>
    </p:spTree>
  </p:cSld>
  <p:transition spd="med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itstream Vera Sans"/>
              </a:rPr>
              <a:t>INGEGNERIA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521000"/>
            <a:ext cx="7772400" cy="82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5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ttime prospettive per gli ingegneri nei settori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algn="just">
              <a:lnSpc>
                <a:spcPct val="75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Bitstream Vera Sans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dilizi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algn="just">
              <a:lnSpc>
                <a:spcPct val="75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Bitstream Vera Sans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Meccanic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algn="just">
              <a:lnSpc>
                <a:spcPct val="75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Bitstream Vera Sans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esign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algn="just">
              <a:lnSpc>
                <a:spcPct val="75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Bitstream Vera Sans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himic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algn="just">
              <a:lnSpc>
                <a:spcPct val="75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Bitstream Vera Sans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formatic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algn="just">
              <a:lnSpc>
                <a:spcPct val="75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Bitstream Vera Sans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lettronic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algn="just">
              <a:lnSpc>
                <a:spcPct val="75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Bitstream Vera Sans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Ricerca e Innovazion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just">
              <a:lnSpc>
                <a:spcPct val="3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www.scenta.co.uk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2C89B-6D6B-4E52-881B-09BB96660033}" type="slidenum">
              <a:t>18</a:t>
            </a:fld>
          </a:p>
        </p:txBody>
      </p:sp>
    </p:spTree>
  </p:cSld>
  <p:transition spd="med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345600"/>
            <a:ext cx="77724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MONDO ACCADEMICO - RICERCA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7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 algn="just">
              <a:lnSpc>
                <a:spcPct val="13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Università e enti di ricerca inglesi sono tra i migliori del mondo. 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just">
              <a:lnSpc>
                <a:spcPct val="13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Offrono borse di studio e posti di lavoro per ricercatori da tutto il mondo. 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just">
              <a:lnSpc>
                <a:spcPct val="5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ctr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www.tes.co.uk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ctr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http://ec.europa.eu/euraxess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15084-CC56-4066-AD5C-7391CD522344}" type="slidenum">
              <a:t>19</a:t>
            </a:fld>
          </a:p>
        </p:txBody>
      </p:sp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402840"/>
            <a:ext cx="80010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DATI GENERALI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1280" y="1491840"/>
            <a:ext cx="4930920" cy="86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>
              <a:lnSpc>
                <a:spcPct val="14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336600"/>
                <a:tab algn="l" pos="38592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2764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6560"/>
                <a:tab algn="l" pos="9383760"/>
                <a:tab algn="l" pos="9840960"/>
                <a:tab algn="l" pos="10298160"/>
                <a:tab algn="l" pos="10755360"/>
                <a:tab algn="l" pos="10756800"/>
                <a:tab algn="l" pos="10758600"/>
                <a:tab algn="l" pos="10760040"/>
                <a:tab algn="l" pos="10761840"/>
                <a:tab algn="l" pos="1076328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Popolazione</a:t>
            </a: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4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336600"/>
                <a:tab algn="l" pos="38592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2764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6560"/>
                <a:tab algn="l" pos="9383760"/>
                <a:tab algn="l" pos="9840960"/>
                <a:tab algn="l" pos="10298160"/>
                <a:tab algn="l" pos="10755360"/>
                <a:tab algn="l" pos="10756800"/>
                <a:tab algn="l" pos="10758600"/>
                <a:tab algn="l" pos="10760040"/>
                <a:tab algn="l" pos="10761840"/>
                <a:tab algn="l" pos="1076328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Londra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4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336600"/>
                <a:tab algn="l" pos="38592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2764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6560"/>
                <a:tab algn="l" pos="9383760"/>
                <a:tab algn="l" pos="9840960"/>
                <a:tab algn="l" pos="10298160"/>
                <a:tab algn="l" pos="10755360"/>
                <a:tab algn="l" pos="10756800"/>
                <a:tab algn="l" pos="10758600"/>
                <a:tab algn="l" pos="10760040"/>
                <a:tab algn="l" pos="10761840"/>
                <a:tab algn="l" pos="1076328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Stranieri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4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336600"/>
                <a:tab algn="l" pos="38592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2764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6560"/>
                <a:tab algn="l" pos="9383760"/>
                <a:tab algn="l" pos="9840960"/>
                <a:tab algn="l" pos="10298160"/>
                <a:tab algn="l" pos="10755360"/>
                <a:tab algn="l" pos="10756800"/>
                <a:tab algn="l" pos="10758600"/>
                <a:tab algn="l" pos="10760040"/>
                <a:tab algn="l" pos="10761840"/>
                <a:tab algn="l" pos="1076328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Italiani </a:t>
            </a: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4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336600"/>
                <a:tab algn="l" pos="38592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2764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6560"/>
                <a:tab algn="l" pos="9383760"/>
                <a:tab algn="l" pos="9840960"/>
                <a:tab algn="l" pos="10298160"/>
                <a:tab algn="l" pos="10755360"/>
                <a:tab algn="l" pos="10756800"/>
                <a:tab algn="l" pos="10758600"/>
                <a:tab algn="l" pos="10760040"/>
                <a:tab algn="l" pos="10761840"/>
                <a:tab algn="l" pos="1076328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Crescita del PIL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4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336600"/>
                <a:tab algn="l" pos="38592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2764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6560"/>
                <a:tab algn="l" pos="9383760"/>
                <a:tab algn="l" pos="9840960"/>
                <a:tab algn="l" pos="10298160"/>
                <a:tab algn="l" pos="10755360"/>
                <a:tab algn="l" pos="10756800"/>
                <a:tab algn="l" pos="10758600"/>
                <a:tab algn="l" pos="10760040"/>
                <a:tab algn="l" pos="10761840"/>
                <a:tab algn="l" pos="1076328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Tasso di disoccupazione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4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336600"/>
                <a:tab algn="l" pos="38592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2764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6560"/>
                <a:tab algn="l" pos="9383760"/>
                <a:tab algn="l" pos="9840960"/>
                <a:tab algn="l" pos="10298160"/>
                <a:tab algn="l" pos="10755360"/>
                <a:tab algn="l" pos="10756800"/>
                <a:tab algn="l" pos="10758600"/>
                <a:tab algn="l" pos="10760040"/>
                <a:tab algn="l" pos="10761840"/>
                <a:tab algn="l" pos="1076328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Tasso di occupazione </a:t>
            </a: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0" name=""/>
          <p:cNvSpPr/>
          <p:nvPr/>
        </p:nvSpPr>
        <p:spPr>
          <a:xfrm>
            <a:off x="4967280" y="1568520"/>
            <a:ext cx="3943440" cy="443700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63,2 mio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8,3 mio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7,2% (2011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196.000 (2010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  <a:ea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Bitstream Vera Sans"/>
                <a:ea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Bitstream Vera Sans"/>
                <a:ea typeface="Arial"/>
              </a:rPr>
              <a:t>2,5%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(stima 2014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  <a:ea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Bitstream Vera Sans"/>
                <a:ea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Bitstream Vera Sans"/>
                <a:ea typeface="Arial"/>
              </a:rPr>
              <a:t>6,0%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(08/2014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  <a:ea typeface="Arial"/>
              </a:rPr>
              <a:t>       </a:t>
            </a:r>
            <a:r>
              <a:rPr b="1" lang="en-GB" sz="2400" spc="-1" strike="noStrike">
                <a:solidFill>
                  <a:srgbClr val="000000"/>
                </a:solidFill>
                <a:latin typeface="Bitstream Vera Sans"/>
                <a:ea typeface="Arial"/>
              </a:rPr>
              <a:t>74,9%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(12/2013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0E413-63C0-4F1B-984F-12718415B5AA}" type="slidenum">
              <a:t>2</a:t>
            </a:fld>
          </a:p>
        </p:txBody>
      </p:sp>
    </p:spTree>
  </p:cSld>
  <p:transition spd="med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itstream Vera Sans"/>
              </a:rPr>
              <a:t>TURISMO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820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 algn="just">
              <a:lnSpc>
                <a:spcPct val="13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Il Regno Unito aumenta il numero dei turisti del 5-10% all’anno. Gli inglesi sono tra coloro che viaggiano di più all’estero. L’Italia è tra le mete più importanti.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ctr">
              <a:lnSpc>
                <a:spcPct val="13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www.tourismsociety.org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ctr">
              <a:lnSpc>
                <a:spcPct val="13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www.people1st.co.uk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2D2A4-E746-4137-B2F9-7C825B827504}" type="slidenum">
              <a:t>20</a:t>
            </a:fld>
          </a:p>
        </p:txBody>
      </p:sp>
    </p:spTree>
  </p:cSld>
  <p:transition spd="med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345600"/>
            <a:ext cx="77724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SETTORE ALBERGHIERO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80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 algn="just"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Alberghi e ristoranti sono sempre in cerca di personale qualificato, da cuochi a receptionist, da pasticieri e F&amp;B. 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just"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Agenzie specializzate cercano personale per il Regno Unito, tutto il mondo e le navi da crociera.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just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ctr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itstream Vera Sans"/>
              </a:rPr>
              <a:t>www.caterer.com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53D82-F2CB-4EAC-8D63-1996073244A0}" type="slidenum">
              <a:t>21</a:t>
            </a:fld>
          </a:p>
        </p:txBody>
      </p:sp>
    </p:spTree>
  </p:cSld>
  <p:transition spd="med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69520" cy="10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itstream Vera Sans"/>
              </a:rPr>
              <a:t>LAVORO STAGIONALE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270080"/>
            <a:ext cx="7769160" cy="937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 algn="just">
              <a:lnSpc>
                <a:spcPct val="15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Settori principali: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90480" indent="-233280" algn="just">
              <a:lnSpc>
                <a:spcPct val="15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Bitstream Vera Sans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Commercio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90480" indent="-233280" algn="just">
              <a:lnSpc>
                <a:spcPct val="15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Bitstream Vera Sans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Catering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90480" indent="-233280" algn="just">
              <a:lnSpc>
                <a:spcPct val="15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Bitstream Vera Sans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Alberghiero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90480" indent="-233280" algn="just">
              <a:lnSpc>
                <a:spcPct val="15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Bitstream Vera Sans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Parchi di divertimento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90480" indent="-233280" algn="just">
              <a:lnSpc>
                <a:spcPct val="15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Bitstream Vera Sans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Agricoltura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73B4F-1040-4ADD-9D60-F9CD3201C448}" type="slidenum">
              <a:t>22</a:t>
            </a:fld>
          </a:p>
        </p:txBody>
      </p:sp>
    </p:spTree>
  </p:cSld>
  <p:transition spd="med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345600"/>
            <a:ext cx="77724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INTERNET</a:t>
            </a: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 / 1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9640" y="161892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Informazioni e offerte di lavoro senza fine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37" name=""/>
          <p:cNvSpPr/>
          <p:nvPr/>
        </p:nvSpPr>
        <p:spPr>
          <a:xfrm>
            <a:off x="2340000" y="2340000"/>
            <a:ext cx="4859280" cy="44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Aft>
                <a:spcPts val="85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www.fish4.co.uk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5000"/>
              </a:lnSpc>
              <a:spcAft>
                <a:spcPts val="85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www.totaljobs.com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5000"/>
              </a:lnSpc>
              <a:spcAft>
                <a:spcPts val="85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www.gumtree.com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5000"/>
              </a:lnSpc>
              <a:spcAft>
                <a:spcPts val="85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www.monster.com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5000"/>
              </a:lnSpc>
              <a:spcAft>
                <a:spcPts val="85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www.topjobs.co.uk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5000"/>
              </a:lnSpc>
              <a:spcAft>
                <a:spcPts val="85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www.londonjobs.co.uk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5000"/>
              </a:lnSpc>
              <a:spcAft>
                <a:spcPts val="85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www.cityjobs.com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Bitstream Vera Sans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80000"/>
              </a:lnSpc>
              <a:spcAft>
                <a:spcPts val="85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  <a:ea typeface="Arial"/>
              </a:rPr>
              <a:t>www.clickajob.co.uk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00000"/>
              </a:lnSpc>
              <a:spcAft>
                <a:spcPts val="575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00000"/>
              </a:lnSpc>
              <a:spcAft>
                <a:spcPts val="575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DE307-DF79-45A2-908A-B687FF40F419}" type="slidenum">
              <a:t>23</a:t>
            </a:fld>
          </a:p>
        </p:txBody>
      </p:sp>
    </p:spTree>
  </p:cSld>
  <p:transition spd="med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45600"/>
            <a:ext cx="77724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INTERNET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 / 2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39" name=""/>
          <p:cNvSpPr/>
          <p:nvPr/>
        </p:nvSpPr>
        <p:spPr>
          <a:xfrm>
            <a:off x="1981080" y="1523880"/>
            <a:ext cx="533412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  <a:ea typeface="Arial"/>
              </a:rPr>
              <a:t>www.reed.co.uk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0" name=""/>
          <p:cNvSpPr/>
          <p:nvPr/>
        </p:nvSpPr>
        <p:spPr>
          <a:xfrm>
            <a:off x="1260360" y="2590920"/>
            <a:ext cx="7350120" cy="31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Bitstream Vera San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  <a:ea typeface="Arial"/>
              </a:rPr>
              <a:t>CV career builder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Bitstream Vera San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  <a:ea typeface="Arial"/>
              </a:rPr>
              <a:t>Salary calcolator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Bitstream Vera San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  <a:ea typeface="Arial"/>
              </a:rPr>
              <a:t>Training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Bitstream Vera San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  <a:ea typeface="Arial"/>
              </a:rPr>
              <a:t>Self assessment tool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Bitstream Vera San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  <a:ea typeface="Arial"/>
              </a:rPr>
              <a:t>Skills demand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AC87B-F492-4A05-857E-77DDF22B8656}" type="slidenum">
              <a:t>24</a:t>
            </a:fld>
          </a:p>
        </p:txBody>
      </p:sp>
    </p:spTree>
  </p:cSld>
  <p:transition spd="med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345600"/>
            <a:ext cx="77724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ORIENTAMENTO PER LAUREATI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828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Bitstream Vera Sans"/>
              </a:rPr>
              <a:t>Career center on-line per laureati con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Bitstream Vera Sans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Mercato del lavoro per ogni tipo di laurea</a:t>
            </a:r>
            <a:endParaRPr b="1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Bitstream Vera Sans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Tendenze future</a:t>
            </a:r>
            <a:endParaRPr b="1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Bitstream Vera Sans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Casi modello</a:t>
            </a:r>
            <a:endParaRPr b="1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Bitstream Vera Sans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Opportunità di training</a:t>
            </a:r>
            <a:endParaRPr b="1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Bitstream Vera Sans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Consulenza sul CV</a:t>
            </a:r>
            <a:endParaRPr b="1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Bitstream Vera Sans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Link per la ricerca di lavoro</a:t>
            </a:r>
            <a:r>
              <a:rPr b="1" lang="en-GB" sz="22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lnSpc>
                <a:spcPts val="3813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www.prospects.ac.uk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85E47-528E-46E7-99D2-75A590ADE857}" type="slidenum">
              <a:t>25</a:t>
            </a:fld>
          </a:p>
        </p:txBody>
      </p:sp>
    </p:spTree>
  </p:cSld>
  <p:transition spd="med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374400"/>
            <a:ext cx="79581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Bitstream Vera Sans"/>
              </a:rPr>
              <a:t>ORIENTAMENTO PER NON-LAUREATI</a:t>
            </a:r>
            <a:endParaRPr b="1" lang="en-US" sz="2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4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Bitstream Vera Sans"/>
              </a:rPr>
              <a:t>Career center on-line per tutte le professioni:</a:t>
            </a:r>
            <a:endParaRPr b="1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Bitstream Vera Sans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Mercato del lavoro per ogni tipo di professione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Bitstream Vera Sans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Tendenze future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Bitstream Vera Sans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Opportunità di training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Bitstream Vera Sans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Consulenza sul CV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Bitstream Vera Sans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Link per la ricerca di lavoro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 algn="ctr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 algn="ctr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https://nationalcareersservice.direct.gov.uk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AC941-BA23-44C6-B267-87EA904DDF04}" type="slidenum">
              <a:t>26</a:t>
            </a:fld>
          </a:p>
        </p:txBody>
      </p:sp>
    </p:spTree>
  </p:cSld>
  <p:transition spd="med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Bitstream Vera Sans"/>
              </a:rPr>
              <a:t>FIERE DEL LAVORO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01280" y="1798560"/>
            <a:ext cx="4157640" cy="884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www.careersfairs.org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 algn="just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www.gradjobs.co.uk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 algn="just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http://londongradfair.co.uk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 algn="just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www.engineerjobs.co.uk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 algn="just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www.thejobfairs.co.uk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7" name=""/>
          <p:cNvSpPr/>
          <p:nvPr/>
        </p:nvSpPr>
        <p:spPr>
          <a:xfrm>
            <a:off x="4954680" y="2274840"/>
            <a:ext cx="3504960" cy="312408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Bitstream Vera Sans"/>
              </a:rPr>
              <a:t>Molte altre fiere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Bitstream Vera Sans"/>
              </a:rPr>
              <a:t>si svolgono al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Bitstream Vera Sans"/>
              </a:rPr>
              <a:t>livello del comune,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Bitstream Vera Sans"/>
              </a:rPr>
              <a:t>dell´università,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Bitstream Vera Sans"/>
              </a:rPr>
              <a:t>e della facoltà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E9885-B8CF-49E5-8D1C-A38759C84D17}" type="slidenum">
              <a:t>27</a:t>
            </a:fld>
          </a:p>
        </p:txBody>
      </p:sp>
    </p:spTree>
  </p:cSld>
  <p:transition spd="med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47592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MONDO DELLE AZIENDE ITALIANE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8040" y="1595160"/>
            <a:ext cx="7772400" cy="76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Bitstream Vera Sans"/>
              </a:rPr>
              <a:t>Panorama molto variegato con sedi di:</a:t>
            </a:r>
            <a:endParaRPr b="1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 algn="just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Bitstream Vera Sans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Bitstream Vera Sans"/>
              </a:rPr>
              <a:t>Produzione;</a:t>
            </a:r>
            <a:endParaRPr b="1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 algn="just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Bitstream Vera Sans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Bitstream Vera Sans"/>
              </a:rPr>
              <a:t>Distribuzione;</a:t>
            </a:r>
            <a:endParaRPr b="1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 algn="just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Bitstream Vera Sans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Bitstream Vera Sans"/>
              </a:rPr>
              <a:t>Rappresentanza.</a:t>
            </a:r>
            <a:endParaRPr b="1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Bitstream Vera Sans"/>
              </a:rPr>
              <a:t>Principali: Barilla, Ferrero, Menarini, Finmeccanica, Fiat, Unicredit, Generali, Agip.</a:t>
            </a:r>
            <a:endParaRPr b="1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Bitstream Vera Sans"/>
              </a:rPr>
              <a:t>Folta presenza di altre aziende italiane.</a:t>
            </a:r>
            <a:endParaRPr b="1" lang="en-US" sz="2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CA1AD-D453-4B81-B0DF-86F2DEE13B40}" type="slidenum">
              <a:t>28</a:t>
            </a:fld>
          </a:p>
        </p:txBody>
      </p:sp>
    </p:spTree>
  </p:cSld>
  <p:transition spd="med"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57240"/>
            <a:ext cx="7772400" cy="15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CAMERE DI COMMERCIO ITALIANA -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ISTITUTO DI COMMERCIO ESTERO 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824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336600"/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298160"/>
                <a:tab algn="l" pos="10755360"/>
                <a:tab algn="l" pos="10756800"/>
                <a:tab algn="l" pos="10758600"/>
                <a:tab algn="l" pos="10760040"/>
                <a:tab algn="l" pos="10761840"/>
                <a:tab algn="l" pos="1076328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Le camere di commercio italiane e gli Istituti di commercio estero (ICE) sono presenti nel Regno Unito e rappresentano gli interessi delle aziende italiane. 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336600"/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298160"/>
                <a:tab algn="l" pos="10755360"/>
                <a:tab algn="l" pos="10756800"/>
                <a:tab algn="l" pos="10758600"/>
                <a:tab algn="l" pos="10760040"/>
                <a:tab algn="l" pos="10761840"/>
                <a:tab algn="l" pos="1076328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Dispongono di informazioni sull’andamento economico e indirizzi utili per la ricerca di lavoro e di stage.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336600"/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298160"/>
                <a:tab algn="l" pos="10755360"/>
                <a:tab algn="l" pos="10756800"/>
                <a:tab algn="l" pos="10758600"/>
                <a:tab algn="l" pos="10760040"/>
                <a:tab algn="l" pos="10761840"/>
                <a:tab algn="l" pos="1076328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ctr">
              <a:lnSpc>
                <a:spcPct val="6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336600"/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298160"/>
                <a:tab algn="l" pos="10755360"/>
                <a:tab algn="l" pos="10756800"/>
                <a:tab algn="l" pos="10758600"/>
                <a:tab algn="l" pos="10760040"/>
                <a:tab algn="l" pos="10761840"/>
                <a:tab algn="l" pos="1076328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www.italchamind.co.uk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ctr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336600"/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298160"/>
                <a:tab algn="l" pos="10755360"/>
                <a:tab algn="l" pos="10756800"/>
                <a:tab algn="l" pos="10758600"/>
                <a:tab algn="l" pos="10760040"/>
                <a:tab algn="l" pos="10761840"/>
                <a:tab algn="l" pos="1076328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www.ice.gov.it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8E3D5-DEF0-4E55-88A4-D633D8E99B38}" type="slidenum">
              <a:t>29</a:t>
            </a:fld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402840"/>
            <a:ext cx="80010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DATI GENERALI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31280" y="1491840"/>
            <a:ext cx="4930920" cy="86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>
              <a:lnSpc>
                <a:spcPct val="14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336600"/>
                <a:tab algn="l" pos="38592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2764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6560"/>
                <a:tab algn="l" pos="9383760"/>
                <a:tab algn="l" pos="9840960"/>
                <a:tab algn="l" pos="10298160"/>
                <a:tab algn="l" pos="10755360"/>
                <a:tab algn="l" pos="10756800"/>
                <a:tab algn="l" pos="10758600"/>
                <a:tab algn="l" pos="10760040"/>
                <a:tab algn="l" pos="10761840"/>
                <a:tab algn="l" pos="1076328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Popolazione</a:t>
            </a: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4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336600"/>
                <a:tab algn="l" pos="38592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2764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6560"/>
                <a:tab algn="l" pos="9383760"/>
                <a:tab algn="l" pos="9840960"/>
                <a:tab algn="l" pos="10298160"/>
                <a:tab algn="l" pos="10755360"/>
                <a:tab algn="l" pos="10756800"/>
                <a:tab algn="l" pos="10758600"/>
                <a:tab algn="l" pos="10760040"/>
                <a:tab algn="l" pos="10761840"/>
                <a:tab algn="l" pos="1076328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Londra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4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336600"/>
                <a:tab algn="l" pos="38592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2764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6560"/>
                <a:tab algn="l" pos="9383760"/>
                <a:tab algn="l" pos="9840960"/>
                <a:tab algn="l" pos="10298160"/>
                <a:tab algn="l" pos="10755360"/>
                <a:tab algn="l" pos="10756800"/>
                <a:tab algn="l" pos="10758600"/>
                <a:tab algn="l" pos="10760040"/>
                <a:tab algn="l" pos="10761840"/>
                <a:tab algn="l" pos="1076328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Stranieri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4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336600"/>
                <a:tab algn="l" pos="38592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2764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6560"/>
                <a:tab algn="l" pos="9383760"/>
                <a:tab algn="l" pos="9840960"/>
                <a:tab algn="l" pos="10298160"/>
                <a:tab algn="l" pos="10755360"/>
                <a:tab algn="l" pos="10756800"/>
                <a:tab algn="l" pos="10758600"/>
                <a:tab algn="l" pos="10760040"/>
                <a:tab algn="l" pos="10761840"/>
                <a:tab algn="l" pos="1076328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Italiani </a:t>
            </a: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4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336600"/>
                <a:tab algn="l" pos="38592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2764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6560"/>
                <a:tab algn="l" pos="9383760"/>
                <a:tab algn="l" pos="9840960"/>
                <a:tab algn="l" pos="10298160"/>
                <a:tab algn="l" pos="10755360"/>
                <a:tab algn="l" pos="10756800"/>
                <a:tab algn="l" pos="10758600"/>
                <a:tab algn="l" pos="10760040"/>
                <a:tab algn="l" pos="10761840"/>
                <a:tab algn="l" pos="1076328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Crescita del PIL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4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336600"/>
                <a:tab algn="l" pos="38592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2764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6560"/>
                <a:tab algn="l" pos="9383760"/>
                <a:tab algn="l" pos="9840960"/>
                <a:tab algn="l" pos="10298160"/>
                <a:tab algn="l" pos="10755360"/>
                <a:tab algn="l" pos="10756800"/>
                <a:tab algn="l" pos="10758600"/>
                <a:tab algn="l" pos="10760040"/>
                <a:tab algn="l" pos="10761840"/>
                <a:tab algn="l" pos="1076328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Tasso di disoccupazione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4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336600"/>
                <a:tab algn="l" pos="38592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2764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6560"/>
                <a:tab algn="l" pos="9383760"/>
                <a:tab algn="l" pos="9840960"/>
                <a:tab algn="l" pos="10298160"/>
                <a:tab algn="l" pos="10755360"/>
                <a:tab algn="l" pos="10756800"/>
                <a:tab algn="l" pos="10758600"/>
                <a:tab algn="l" pos="10760040"/>
                <a:tab algn="l" pos="10761840"/>
                <a:tab algn="l" pos="1076328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Tasso di occupazione </a:t>
            </a: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3" name=""/>
          <p:cNvSpPr/>
          <p:nvPr/>
        </p:nvSpPr>
        <p:spPr>
          <a:xfrm>
            <a:off x="4967280" y="1568520"/>
            <a:ext cx="3943440" cy="443700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63,2 mio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8,3 mio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7,2% (2011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196.000 (2010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  <a:ea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Bitstream Vera Sans"/>
                <a:ea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Bitstream Vera Sans"/>
                <a:ea typeface="Arial"/>
              </a:rPr>
              <a:t>2,5%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(stima 2015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  <a:ea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Bitstream Vera Sans"/>
                <a:ea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Bitstream Vera Sans"/>
                <a:ea typeface="Arial"/>
              </a:rPr>
              <a:t>5,8%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(11/2014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  <a:ea typeface="Arial"/>
              </a:rPr>
              <a:t>       </a:t>
            </a:r>
            <a:r>
              <a:rPr b="1" lang="en-GB" sz="2400" spc="-1" strike="noStrike">
                <a:solidFill>
                  <a:srgbClr val="000000"/>
                </a:solidFill>
                <a:latin typeface="Bitstream Vera Sans"/>
                <a:ea typeface="Arial"/>
              </a:rPr>
              <a:t>73,0%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(11/2014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BC700-D10A-4FDB-94A6-75C499DA625A}" type="slidenum">
              <a:t>3</a:t>
            </a:fld>
          </a:p>
        </p:txBody>
      </p:sp>
    </p:spTree>
  </p:cSld>
  <p:transition spd="med"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44568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CAMERA DI COMMERCIO BRITANNICA  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 algn="just">
              <a:lnSpc>
                <a:spcPct val="100000"/>
              </a:lnSpc>
              <a:spcBef>
                <a:spcPts val="1162"/>
              </a:spcBef>
              <a:spcAft>
                <a:spcPts val="1162"/>
              </a:spcAft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La camera di commercio britannica offre per le aziende soci un servizio di ricerca online di personale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just">
              <a:lnSpc>
                <a:spcPct val="1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ctr">
              <a:lnSpc>
                <a:spcPct val="6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itstream Vera Sans"/>
              </a:rPr>
              <a:t>www.britchamitaly.com</a:t>
            </a:r>
            <a:endParaRPr b="1" lang="en-US" sz="3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07699-A015-4C0E-A3CA-D5601B5265C0}" type="slidenum">
              <a:t>30</a:t>
            </a:fld>
          </a:p>
        </p:txBody>
      </p:sp>
    </p:spTree>
  </p:cSld>
  <p:transition spd="med"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INDIRIZZARI DELLE AZIENDE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522440"/>
            <a:ext cx="7772400" cy="896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>
              <a:lnSpc>
                <a:spcPct val="1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Bitstream Vera Sans"/>
              </a:rPr>
              <a:t>The Times 100</a:t>
            </a:r>
            <a:r>
              <a:rPr b="1" i="1" lang="en-GB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www.top100graduateemployers.co 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K</a:t>
            </a:r>
            <a:r>
              <a:rPr b="0" i="1" lang="en-GB" sz="2400" spc="-1" strike="noStrike">
                <a:solidFill>
                  <a:srgbClr val="000000"/>
                </a:solidFill>
                <a:latin typeface="Bitstream Vera Sans"/>
              </a:rPr>
              <a:t>ey British Enterprises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Bitstream Vera Sans"/>
              </a:rPr>
              <a:t>Benn’s Media Directory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www.kompass.com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www.europages.com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796B2-E1D6-48BD-ADE9-981EFB06FC8C}" type="slidenum">
              <a:t>31</a:t>
            </a:fld>
          </a:p>
        </p:txBody>
      </p:sp>
    </p:spTree>
  </p:cSld>
  <p:transition spd="med"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ASSOCIAZIONI PROFESSIONALI / 1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360" y="1572840"/>
            <a:ext cx="7772400" cy="95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 algn="just">
              <a:lnSpc>
                <a:spcPct val="15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Bitstream Vera Sans"/>
              </a:rPr>
              <a:t>Ordini e associazioni professionali offrono  servizi di consulenza che riguardano anche il riconoscimento dei titoli di studio, la formazione continua e l’inquadramento. </a:t>
            </a:r>
            <a:endParaRPr b="1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just">
              <a:lnSpc>
                <a:spcPct val="15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Bitstream Vera Sans"/>
              </a:rPr>
              <a:t>Possono anche essere una fonte d’informazione per la ricerca del lavoro e dello stage. </a:t>
            </a:r>
            <a:endParaRPr b="1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just">
              <a:lnSpc>
                <a:spcPct val="95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53B4F-2E41-4018-9554-4382EEDB3271}" type="slidenum">
              <a:t>32</a:t>
            </a:fld>
          </a:p>
        </p:txBody>
      </p:sp>
    </p:spTree>
  </p:cSld>
  <p:transition spd="med"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120" y="475920"/>
            <a:ext cx="807732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ASSOCIAZIONI PROFESSIONALI / 2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9280" y="1618920"/>
            <a:ext cx="8340840" cy="76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 algn="just"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36600"/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298160"/>
                <a:tab algn="l" pos="10755360"/>
                <a:tab algn="l" pos="10756800"/>
                <a:tab algn="l" pos="10758600"/>
                <a:tab algn="l" pos="10760040"/>
                <a:tab algn="l" pos="10761840"/>
                <a:tab algn="l" pos="1076328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British Association of Social Workers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ww.basw.co.uk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just"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36600"/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298160"/>
                <a:tab algn="l" pos="10755360"/>
                <a:tab algn="l" pos="10756800"/>
                <a:tab algn="l" pos="10758600"/>
                <a:tab algn="l" pos="10760040"/>
                <a:tab algn="l" pos="10761840"/>
                <a:tab algn="l" pos="1076328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Engineering Council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ww.engc.org.uk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just"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36600"/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298160"/>
                <a:tab algn="l" pos="10755360"/>
                <a:tab algn="l" pos="10756800"/>
                <a:tab algn="l" pos="10758600"/>
                <a:tab algn="l" pos="10760040"/>
                <a:tab algn="l" pos="10761840"/>
                <a:tab algn="l" pos="1076328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he British Medical Association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ww.bma.org.uk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36600"/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298160"/>
                <a:tab algn="l" pos="10755360"/>
                <a:tab algn="l" pos="10756800"/>
                <a:tab algn="l" pos="10758600"/>
                <a:tab algn="l" pos="10760040"/>
                <a:tab algn="l" pos="10761840"/>
                <a:tab algn="l" pos="1076328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Royal Inst. of British Architects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       www.architecture.com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just"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36600"/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298160"/>
                <a:tab algn="l" pos="10755360"/>
                <a:tab algn="l" pos="10756800"/>
                <a:tab algn="l" pos="10758600"/>
                <a:tab algn="l" pos="10760040"/>
                <a:tab algn="l" pos="10761840"/>
                <a:tab algn="l" pos="1076328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he Law Society 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ww.lawsoc.org.uk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just"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36600"/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298160"/>
                <a:tab algn="l" pos="10755360"/>
                <a:tab algn="l" pos="10756800"/>
                <a:tab algn="l" pos="10758600"/>
                <a:tab algn="l" pos="10760040"/>
                <a:tab algn="l" pos="10761840"/>
                <a:tab algn="l" pos="1076328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Chartered Inst. of Marketing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ww.cim.co.uk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just"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36600"/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298160"/>
                <a:tab algn="l" pos="10755360"/>
                <a:tab algn="l" pos="10756800"/>
                <a:tab algn="l" pos="10758600"/>
                <a:tab algn="l" pos="10760040"/>
                <a:tab algn="l" pos="10761840"/>
                <a:tab algn="l" pos="1076328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Chartered Inst. of Bankers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ww.cib.org.uk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1D094-3F90-4004-9088-168AF51084DA}" type="slidenum">
              <a:t>33</a:t>
            </a:fld>
          </a:p>
        </p:txBody>
      </p:sp>
    </p:spTree>
  </p:cSld>
  <p:transition spd="med"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69520" cy="10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itstream Vera Sans"/>
              </a:rPr>
              <a:t>NETWORKING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76916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5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Oltre 50% dei lavori si trova tramite contatti personali. Un modo per conoscere professionisti del proprio settore con interesse “Regno Unito” sono le comunità virtuali di social networking.</a:t>
            </a:r>
            <a:endParaRPr b="1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45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Bitstream Vera Sans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www.facebook.com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95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www.xing.com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95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Bitstream Vera Sans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www.linkedin.com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EC872-0BB6-472C-B83F-FF7986A7717E}" type="slidenum">
              <a:t>34</a:t>
            </a:fld>
          </a:p>
        </p:txBody>
      </p:sp>
    </p:spTree>
  </p:cSld>
  <p:transition spd="med"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69520" cy="10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itstream Vera Sans"/>
              </a:rPr>
              <a:t>NETWORKING /2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90120" y="1798200"/>
            <a:ext cx="7769160" cy="67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5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Esistono varie reti di emigrati italiani che forniscono informazioni e aiuto in loco.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Bitstream Vera Sans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www.italiansoflondon.com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Bitstream Vera Sans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www.italianialondra.com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Bitstream Vera Sans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www.italiansunited.co.uk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Bitstream Vera Sans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www.entevicentini.it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0DBA9-3711-4C6D-BA5E-AA565A50B42E}" type="slidenum">
              <a:t>35</a:t>
            </a:fld>
          </a:p>
        </p:txBody>
      </p:sp>
    </p:spTree>
  </p:cSld>
  <p:transition spd="med"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345600"/>
            <a:ext cx="77724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AGENZIE A PAGAMENTO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001000" cy="92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Numerose agenzie italiane e straniere organizzano, a pagamento, attività di mobilità internazionale. I 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Bitstream Vera Sans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Soggiorni linguistici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Bitstream Vera Sans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Soggiorni alla pari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Bitstream Vera Sans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Lavoro non qualificato (principalmente ristorazione)</a:t>
            </a: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Bitstream Vera Sans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Stage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just">
              <a:lnSpc>
                <a:spcPct val="4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Sui siti degli Informagiovani si trovano gli indirizzi delle agenzie.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B2FD3-37FE-4D01-9426-309B80856B4A}" type="slidenum">
              <a:t>36</a:t>
            </a:fld>
          </a:p>
        </p:txBody>
      </p:sp>
    </p:spTree>
  </p:cSld>
  <p:transition spd="med"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366480"/>
            <a:ext cx="77724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itstream Vera Sans"/>
              </a:rPr>
              <a:t>TITOLI ACCADEMICI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522080"/>
            <a:ext cx="7772400" cy="87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Le norme e le procedure che regolano il riconoscimento dei titoli accademici italiani all’estero sono diverse da paese a paese. 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Centri di informazione nazionali sono coordinati nelle reti europee denominate NARIC, promossa dalla Commissione Europea, ed ENIC, promossa dal Consiglio d’Europa e dall’Unesco.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just">
              <a:lnSpc>
                <a:spcPct val="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ctr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www.cimea.it - www.naric.org.uk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ctr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777F4-C031-4A9F-B2A5-B21E872F3F0F}" type="slidenum">
              <a:t>37</a:t>
            </a:fld>
          </a:p>
        </p:txBody>
      </p:sp>
    </p:spTree>
  </p:cSld>
  <p:transition spd="med"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itstream Vera Sans"/>
                <a:ea typeface="Arial Unicode MS"/>
              </a:rPr>
              <a:t>QUALIFICHE PROFESSIONALI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775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  <a:ea typeface="Arial Unicode MS"/>
              </a:rPr>
              <a:t>I punti di riferimento nazionali</a:t>
            </a:r>
            <a:r>
              <a:rPr b="1" lang="en-GB" sz="3200" spc="-1" strike="noStrike">
                <a:solidFill>
                  <a:srgbClr val="000000"/>
                </a:solidFill>
                <a:latin typeface="Bitstream Vera Sans"/>
                <a:ea typeface="Arial Unicode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  <a:ea typeface="Arial Unicode MS"/>
              </a:rPr>
              <a:t>forniscono informazioni sui sistemi di Istruzione Formazione Professionale e sulle certificazioni rilasciate nel sistema di Formazione Professionale.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  <a:ea typeface="Arial Unicode MS"/>
              </a:rPr>
              <a:t>Informano inoltre cittadini e istituzioni nell’utilizzo degli strumenti per la trasparenza, in particolare del Supplemento al Certificato e del Curriculum Vitae Europeo.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just">
              <a:lnSpc>
                <a:spcPct val="3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itstream Vera Sans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Bitstream Vera Sans"/>
                <a:ea typeface="Arial Unicode MS"/>
              </a:rPr>
              <a:t>  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ctr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  <a:ea typeface="Arial Unicode MS"/>
              </a:rPr>
              <a:t>www.nrpitalia.it - www.uknrp.org.uk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FA69B-C29E-4C4D-A137-CAB106FBB976}" type="slidenum">
              <a:t>38</a:t>
            </a:fld>
          </a:p>
        </p:txBody>
      </p:sp>
    </p:spTree>
  </p:cSld>
  <p:transition spd="med">
    <p:wipe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itstream Vera Sans"/>
                <a:ea typeface="Arial Unicode MS"/>
              </a:rPr>
              <a:t>DIPLOMI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757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45000"/>
              </a:lnSpc>
              <a:spcBef>
                <a:spcPts val="799"/>
              </a:spcBef>
              <a:spcAft>
                <a:spcPts val="799"/>
              </a:spcAft>
              <a:buClr>
                <a:srgbClr val="b2b2b2"/>
              </a:buClr>
              <a:buFont typeface="Wingdings" charset="2"/>
              <a:buChar char="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GCSE = licenza media (16 anni)</a:t>
            </a: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algn="just">
              <a:lnSpc>
                <a:spcPct val="145000"/>
              </a:lnSpc>
              <a:spcBef>
                <a:spcPts val="799"/>
              </a:spcBef>
              <a:spcAft>
                <a:spcPts val="799"/>
              </a:spcAft>
              <a:buClr>
                <a:srgbClr val="b2b2b2"/>
              </a:buClr>
              <a:buFont typeface="Wingdings" charset="2"/>
              <a:buChar char="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GCS A-Level = maturità (18 anni)</a:t>
            </a: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algn="just">
              <a:lnSpc>
                <a:spcPct val="145000"/>
              </a:lnSpc>
              <a:spcBef>
                <a:spcPts val="799"/>
              </a:spcBef>
              <a:spcAft>
                <a:spcPts val="799"/>
              </a:spcAft>
              <a:buClr>
                <a:srgbClr val="b2b2b2"/>
              </a:buClr>
              <a:buFont typeface="Wingdings" charset="2"/>
              <a:buChar char="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NVQ = formazione prof. e tecnica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algn="just">
              <a:lnSpc>
                <a:spcPct val="145000"/>
              </a:lnSpc>
              <a:spcBef>
                <a:spcPts val="799"/>
              </a:spcBef>
              <a:spcAft>
                <a:spcPts val="799"/>
              </a:spcAft>
              <a:buClr>
                <a:srgbClr val="b2b2b2"/>
              </a:buClr>
              <a:buFont typeface="Wingdings" charset="2"/>
              <a:buChar char="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Bachelor (Ordinary - Honours)</a:t>
            </a: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algn="just">
              <a:lnSpc>
                <a:spcPct val="145000"/>
              </a:lnSpc>
              <a:spcBef>
                <a:spcPts val="799"/>
              </a:spcBef>
              <a:spcAft>
                <a:spcPts val="799"/>
              </a:spcAft>
              <a:buClr>
                <a:srgbClr val="b2b2b2"/>
              </a:buClr>
              <a:buFont typeface="Wingdings" charset="2"/>
              <a:buChar char="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Master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92552-BB4E-4A83-9C30-D71FC02323A1}" type="slidenum">
              <a:t>39</a:t>
            </a:fld>
          </a:p>
        </p:txBody>
      </p:sp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402840"/>
            <a:ext cx="80010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DIFFERENZE REGIONALI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5" name=""/>
          <p:cNvSpPr/>
          <p:nvPr/>
        </p:nvSpPr>
        <p:spPr>
          <a:xfrm>
            <a:off x="7740720" y="1440000"/>
            <a:ext cx="10810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576360" y="1584360"/>
          <a:ext cx="7200360" cy="4677840"/>
        </p:xfrm>
        <a:graphic>
          <a:graphicData uri="http://schemas.openxmlformats.org/drawingml/2006/table">
            <a:tbl>
              <a:tblPr/>
              <a:tblGrid>
                <a:gridCol w="3499200"/>
                <a:gridCol w="1868760"/>
                <a:gridCol w="1832400"/>
              </a:tblGrid>
              <a:tr h="523800">
                <a:tc>
                  <a:txBody>
                    <a:bodyPr lIns="36000" rIns="36000" tIns="189000" bIns="36000" anchor="t">
                      <a:noAutofit/>
                    </a:bodyPr>
                    <a:p>
                      <a:pPr algn="ctr">
                        <a:lnSpc>
                          <a:spcPct val="6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Bitstream Vera Sans"/>
                        </a:rPr>
                        <a:t>Region (08/201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Bitstream Vera Sans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36000" rIns="36000" tIns="267840" bIns="36000" anchor="ctr">
                      <a:noAutofit/>
                    </a:bodyPr>
                    <a:p>
                      <a:pPr algn="ctr">
                        <a:lnSpc>
                          <a:spcPct val="4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Employment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Bitstream Vera Sans"/>
                      </a:endParaRPr>
                    </a:p>
                  </a:txBody>
                  <a:tcPr anchor="ctr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36000" rIns="36000" tIns="267840" bIns="36000" anchor="ctr">
                      <a:noAutofit/>
                    </a:bodyPr>
                    <a:p>
                      <a:pPr algn="ctr">
                        <a:lnSpc>
                          <a:spcPct val="4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Unemployment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Bitstream Vera Sans"/>
                      </a:endParaRPr>
                    </a:p>
                  </a:txBody>
                  <a:tcPr anchor="ctr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461880">
                <a:tc>
                  <a:txBody>
                    <a:bodyPr lIns="36000" rIns="36000" tIns="238680" bIns="36000" anchor="t">
                      <a:noAutofit/>
                    </a:bodyPr>
                    <a:p>
                      <a:pPr>
                        <a:lnSpc>
                          <a:spcPct val="4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North E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Bitstream Vera Sans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36000" rIns="36000" tIns="238680" bIns="36000" anchor="t">
                      <a:noAutofit/>
                    </a:bodyPr>
                    <a:p>
                      <a:pPr algn="ctr">
                        <a:lnSpc>
                          <a:spcPct val="4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69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Bitstream Vera Sans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36000" rIns="36000" tIns="238680" bIns="36000" anchor="t">
                      <a:noAutofit/>
                    </a:bodyPr>
                    <a:p>
                      <a:pPr algn="ctr">
                        <a:lnSpc>
                          <a:spcPct val="4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9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Bitstream Vera Sans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462600">
                <a:tc>
                  <a:txBody>
                    <a:bodyPr lIns="36000" rIns="36000" tIns="238680" bIns="36000" anchor="t">
                      <a:noAutofit/>
                    </a:bodyPr>
                    <a:p>
                      <a:pPr>
                        <a:lnSpc>
                          <a:spcPct val="4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North Wes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Bitstream Vera Sans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36000" rIns="36000" tIns="238680" bIns="36000" anchor="t">
                      <a:noAutofit/>
                    </a:bodyPr>
                    <a:p>
                      <a:pPr algn="ctr">
                        <a:lnSpc>
                          <a:spcPct val="4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7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Bitstream Vera Sans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36000" rIns="36000" tIns="238680" bIns="36000" anchor="t">
                      <a:noAutofit/>
                    </a:bodyPr>
                    <a:p>
                      <a:pPr algn="ctr">
                        <a:lnSpc>
                          <a:spcPct val="4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6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Bitstream Vera Sans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461880">
                <a:tc>
                  <a:txBody>
                    <a:bodyPr lIns="36000" rIns="36000" tIns="238680" bIns="36000" anchor="t">
                      <a:noAutofit/>
                    </a:bodyPr>
                    <a:p>
                      <a:pPr>
                        <a:lnSpc>
                          <a:spcPct val="4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East Midla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Bitstream Vera Sans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36000" rIns="36000" tIns="238680" bIns="36000" anchor="t">
                      <a:noAutofit/>
                    </a:bodyPr>
                    <a:p>
                      <a:pPr algn="ctr">
                        <a:lnSpc>
                          <a:spcPct val="4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73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Bitstream Vera Sans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36000" rIns="36000" tIns="238680" bIns="36000" anchor="t">
                      <a:noAutofit/>
                    </a:bodyPr>
                    <a:p>
                      <a:pPr algn="ctr">
                        <a:lnSpc>
                          <a:spcPct val="4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Bitstream Vera Sans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462240">
                <a:tc>
                  <a:txBody>
                    <a:bodyPr lIns="36000" rIns="36000" tIns="238680" bIns="36000" anchor="t">
                      <a:noAutofit/>
                    </a:bodyPr>
                    <a:p>
                      <a:pPr>
                        <a:lnSpc>
                          <a:spcPct val="4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East of Engl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Bitstream Vera Sans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36000" rIns="36000" tIns="238680" bIns="36000" anchor="t">
                      <a:noAutofit/>
                    </a:bodyPr>
                    <a:p>
                      <a:pPr algn="ctr">
                        <a:lnSpc>
                          <a:spcPct val="4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76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Bitstream Vera Sans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36000" rIns="36000" tIns="238680" bIns="36000" anchor="t">
                      <a:noAutofit/>
                    </a:bodyPr>
                    <a:p>
                      <a:pPr algn="ctr">
                        <a:lnSpc>
                          <a:spcPct val="4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4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Bitstream Vera Sans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461880">
                <a:tc>
                  <a:txBody>
                    <a:bodyPr lIns="36000" rIns="36000" tIns="238680" bIns="36000" anchor="t">
                      <a:noAutofit/>
                    </a:bodyPr>
                    <a:p>
                      <a:pPr>
                        <a:lnSpc>
                          <a:spcPct val="4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Lond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Bitstream Vera Sans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36000" rIns="36000" tIns="238680" bIns="36000" anchor="t">
                      <a:noAutofit/>
                    </a:bodyPr>
                    <a:p>
                      <a:pPr algn="ctr">
                        <a:lnSpc>
                          <a:spcPct val="4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72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Bitstream Vera Sans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36000" rIns="36000" tIns="238680" bIns="36000" anchor="t">
                      <a:noAutofit/>
                    </a:bodyPr>
                    <a:p>
                      <a:pPr algn="ctr">
                        <a:lnSpc>
                          <a:spcPct val="4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6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Bitstream Vera Sans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459000">
                <a:tc>
                  <a:txBody>
                    <a:bodyPr lIns="36000" rIns="36000" tIns="238680" bIns="36000" anchor="t">
                      <a:noAutofit/>
                    </a:bodyPr>
                    <a:p>
                      <a:pPr>
                        <a:lnSpc>
                          <a:spcPct val="4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South E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Bitstream Vera Sans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36000" rIns="36000" tIns="238680" bIns="36000" anchor="t">
                      <a:noAutofit/>
                    </a:bodyPr>
                    <a:p>
                      <a:pPr algn="ctr">
                        <a:lnSpc>
                          <a:spcPct val="4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76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Bitstream Vera Sans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36000" rIns="36000" tIns="238680" bIns="36000" anchor="t">
                      <a:noAutofit/>
                    </a:bodyPr>
                    <a:p>
                      <a:pPr algn="ctr">
                        <a:lnSpc>
                          <a:spcPct val="4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4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Bitstream Vera Sans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462240">
                <a:tc>
                  <a:txBody>
                    <a:bodyPr lIns="36000" rIns="36000" tIns="238680" bIns="36000" anchor="t">
                      <a:noAutofit/>
                    </a:bodyPr>
                    <a:p>
                      <a:pPr>
                        <a:lnSpc>
                          <a:spcPct val="4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South W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Bitstream Vera Sans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36000" rIns="36000" tIns="238680" bIns="36000" anchor="t">
                      <a:noAutofit/>
                    </a:bodyPr>
                    <a:p>
                      <a:pPr algn="ctr">
                        <a:lnSpc>
                          <a:spcPct val="4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76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Bitstream Vera Sans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36000" rIns="36000" tIns="238680" bIns="36000" anchor="t">
                      <a:noAutofit/>
                    </a:bodyPr>
                    <a:p>
                      <a:pPr algn="ctr">
                        <a:lnSpc>
                          <a:spcPct val="4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4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Bitstream Vera Sans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461880">
                <a:tc>
                  <a:txBody>
                    <a:bodyPr lIns="36000" rIns="36000" tIns="238680" bIns="36000" anchor="t">
                      <a:noAutofit/>
                    </a:bodyPr>
                    <a:p>
                      <a:pPr>
                        <a:lnSpc>
                          <a:spcPct val="4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W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Bitstream Vera Sans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36000" rIns="36000" tIns="238680" bIns="36000" anchor="t">
                      <a:noAutofit/>
                    </a:bodyPr>
                    <a:p>
                      <a:pPr algn="ctr">
                        <a:lnSpc>
                          <a:spcPct val="4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68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Bitstream Vera Sans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36000" rIns="36000" tIns="238680" bIns="36000" anchor="t">
                      <a:noAutofit/>
                    </a:bodyPr>
                    <a:p>
                      <a:pPr algn="ctr">
                        <a:lnSpc>
                          <a:spcPct val="4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6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Bitstream Vera Sans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460440">
                <a:tc>
                  <a:txBody>
                    <a:bodyPr lIns="36000" rIns="36000" tIns="238680" bIns="36000" anchor="t">
                      <a:noAutofit/>
                    </a:bodyPr>
                    <a:p>
                      <a:pPr>
                        <a:lnSpc>
                          <a:spcPct val="4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Scotl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Bitstream Vera Sans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36000" rIns="36000" tIns="238680" bIns="36000" anchor="t">
                      <a:noAutofit/>
                    </a:bodyPr>
                    <a:p>
                      <a:pPr algn="ctr">
                        <a:lnSpc>
                          <a:spcPct val="4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73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Bitstream Vera Sans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36000" rIns="36000" tIns="238680" bIns="36000" anchor="t">
                      <a:noAutofit/>
                    </a:bodyPr>
                    <a:p>
                      <a:pPr algn="ctr">
                        <a:lnSpc>
                          <a:spcPct val="4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Bitstream Vera Sans"/>
                      </a:endParaRPr>
                    </a:p>
                  </a:txBody>
                  <a:tcPr anchor="t" marL="36000" marR="36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0FB2E-9951-4B50-A533-7BA9655B49B5}" type="slidenum">
              <a:t>4</a:t>
            </a:fld>
          </a:p>
        </p:txBody>
      </p:sp>
    </p:spTree>
  </p:cSld>
  <p:transition spd="med">
    <p:wipe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itstream Vera Sans"/>
              </a:rPr>
              <a:t>RETRIBUZIONE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11160"/>
            <a:ext cx="7772400" cy="78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 algn="just">
              <a:lnSpc>
                <a:spcPct val="130000"/>
              </a:lnSpc>
              <a:spcBef>
                <a:spcPts val="700"/>
              </a:spcBef>
              <a:spcAft>
                <a:spcPts val="700"/>
              </a:spcAft>
              <a:buClr>
                <a:srgbClr val="b2b2b2"/>
              </a:buClr>
              <a:buFont typeface="Wingdings" charset="2"/>
              <a:buChar char=""/>
              <a:tabLst>
                <a:tab algn="l" pos="809640"/>
                <a:tab algn="l" pos="1724040"/>
                <a:tab algn="l" pos="2638440"/>
                <a:tab algn="l" pos="3552840"/>
                <a:tab algn="l" pos="4467240"/>
                <a:tab algn="l" pos="5381640"/>
                <a:tab algn="l" pos="6296040"/>
                <a:tab algn="l" pos="7210440"/>
                <a:tab algn="l" pos="8124840"/>
                <a:tab algn="l" pos="9039240"/>
                <a:tab algn="l" pos="9953640"/>
                <a:tab algn="l" pos="10252080"/>
                <a:tab algn="l" pos="10709280"/>
                <a:tab algn="l" pos="10712520"/>
                <a:tab algn="l" pos="10715760"/>
                <a:tab algn="l" pos="10718640"/>
                <a:tab algn="l" pos="10721880"/>
                <a:tab algn="l" pos="10725120"/>
                <a:tab algn="l" pos="10728360"/>
                <a:tab algn="l" pos="10731600"/>
                <a:tab algn="l" pos="10734840"/>
                <a:tab algn="l" pos="10737720"/>
                <a:tab algn="l" pos="10740960"/>
                <a:tab algn="l" pos="10744200"/>
                <a:tab algn="l" pos="10747440"/>
                <a:tab algn="l" pos="10750680"/>
                <a:tab algn="l" pos="10753560"/>
                <a:tab algn="l" pos="10756800"/>
                <a:tab algn="l" pos="10760040"/>
                <a:tab algn="l" pos="1076328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Bitstream Vera Sans"/>
              </a:rPr>
              <a:t>Salario minimo orario</a:t>
            </a: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     £6.50 (21+) 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299880" indent="0" algn="just">
              <a:lnSpc>
                <a:spcPct val="13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809640"/>
                <a:tab algn="l" pos="1724040"/>
                <a:tab algn="l" pos="2638440"/>
                <a:tab algn="l" pos="3552840"/>
                <a:tab algn="l" pos="4467240"/>
                <a:tab algn="l" pos="5381640"/>
                <a:tab algn="l" pos="6296040"/>
                <a:tab algn="l" pos="7210440"/>
                <a:tab algn="l" pos="8124840"/>
                <a:tab algn="l" pos="9039240"/>
                <a:tab algn="l" pos="9953640"/>
                <a:tab algn="l" pos="10252080"/>
                <a:tab algn="l" pos="10709280"/>
                <a:tab algn="l" pos="10712520"/>
                <a:tab algn="l" pos="10715760"/>
                <a:tab algn="l" pos="10718640"/>
                <a:tab algn="l" pos="10721880"/>
                <a:tab algn="l" pos="10725120"/>
                <a:tab algn="l" pos="10728360"/>
                <a:tab algn="l" pos="10731600"/>
                <a:tab algn="l" pos="10734840"/>
                <a:tab algn="l" pos="10737720"/>
                <a:tab algn="l" pos="10740960"/>
                <a:tab algn="l" pos="10744200"/>
                <a:tab algn="l" pos="10747440"/>
                <a:tab algn="l" pos="10750680"/>
                <a:tab algn="l" pos="10753560"/>
                <a:tab algn="l" pos="10756800"/>
                <a:tab algn="l" pos="10760040"/>
                <a:tab algn="l" pos="1076328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alla settimana £260 </a:t>
            </a:r>
            <a:r>
              <a:rPr b="0" i="1" lang="en-GB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290520" indent="-290520" algn="just">
              <a:lnSpc>
                <a:spcPct val="130000"/>
              </a:lnSpc>
              <a:spcBef>
                <a:spcPts val="700"/>
              </a:spcBef>
              <a:spcAft>
                <a:spcPts val="700"/>
              </a:spcAft>
              <a:buClr>
                <a:srgbClr val="b2b2b2"/>
              </a:buClr>
              <a:buFont typeface="Wingdings" charset="2"/>
              <a:buChar char=""/>
              <a:tabLst>
                <a:tab algn="l" pos="809640"/>
                <a:tab algn="l" pos="1724040"/>
                <a:tab algn="l" pos="2638440"/>
                <a:tab algn="l" pos="3552840"/>
                <a:tab algn="l" pos="4467240"/>
                <a:tab algn="l" pos="5381640"/>
                <a:tab algn="l" pos="6296040"/>
                <a:tab algn="l" pos="7210440"/>
                <a:tab algn="l" pos="8124840"/>
                <a:tab algn="l" pos="9039240"/>
                <a:tab algn="l" pos="9953640"/>
                <a:tab algn="l" pos="10252080"/>
                <a:tab algn="l" pos="10709280"/>
                <a:tab algn="l" pos="10712520"/>
                <a:tab algn="l" pos="10715760"/>
                <a:tab algn="l" pos="10718640"/>
                <a:tab algn="l" pos="10721880"/>
                <a:tab algn="l" pos="10725120"/>
                <a:tab algn="l" pos="10728360"/>
                <a:tab algn="l" pos="10731600"/>
                <a:tab algn="l" pos="10734840"/>
                <a:tab algn="l" pos="10737720"/>
                <a:tab algn="l" pos="10740960"/>
                <a:tab algn="l" pos="10744200"/>
                <a:tab algn="l" pos="10747440"/>
                <a:tab algn="l" pos="10750680"/>
                <a:tab algn="l" pos="10753560"/>
                <a:tab algn="l" pos="10756800"/>
                <a:tab algn="l" pos="10760040"/>
                <a:tab algn="l" pos="1076328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ristoranti, alberghi e negozi 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057400" indent="-228600" algn="just">
              <a:lnSpc>
                <a:spcPct val="91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809640"/>
                <a:tab algn="l" pos="1724040"/>
                <a:tab algn="l" pos="2638440"/>
                <a:tab algn="l" pos="3552840"/>
                <a:tab algn="l" pos="4467240"/>
                <a:tab algn="l" pos="5381640"/>
                <a:tab algn="l" pos="6296040"/>
                <a:tab algn="l" pos="7210440"/>
                <a:tab algn="l" pos="8124840"/>
                <a:tab algn="l" pos="9039240"/>
                <a:tab algn="l" pos="9953640"/>
                <a:tab algn="l" pos="10252080"/>
                <a:tab algn="l" pos="10709280"/>
                <a:tab algn="l" pos="10712520"/>
                <a:tab algn="l" pos="10715760"/>
                <a:tab algn="l" pos="10718640"/>
                <a:tab algn="l" pos="10721880"/>
                <a:tab algn="l" pos="10725120"/>
                <a:tab algn="l" pos="10728360"/>
                <a:tab algn="l" pos="10731600"/>
                <a:tab algn="l" pos="10734840"/>
                <a:tab algn="l" pos="10737720"/>
                <a:tab algn="l" pos="10740960"/>
                <a:tab algn="l" pos="10744200"/>
                <a:tab algn="l" pos="10747440"/>
                <a:tab algn="l" pos="10750680"/>
                <a:tab algn="l" pos="10753560"/>
                <a:tab algn="l" pos="10756800"/>
                <a:tab algn="l" pos="10760040"/>
                <a:tab algn="l" pos="1076328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= salario minimo</a:t>
            </a:r>
            <a:r>
              <a:rPr b="0" i="1" lang="en-GB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290520" indent="-290520" algn="just">
              <a:lnSpc>
                <a:spcPct val="130000"/>
              </a:lnSpc>
              <a:spcBef>
                <a:spcPts val="700"/>
              </a:spcBef>
              <a:spcAft>
                <a:spcPts val="700"/>
              </a:spcAft>
              <a:buClr>
                <a:srgbClr val="b2b2b2"/>
              </a:buClr>
              <a:buFont typeface="Wingdings" charset="2"/>
              <a:buChar char=""/>
              <a:tabLst>
                <a:tab algn="l" pos="809640"/>
                <a:tab algn="l" pos="1724040"/>
                <a:tab algn="l" pos="2638440"/>
                <a:tab algn="l" pos="3552840"/>
                <a:tab algn="l" pos="4467240"/>
                <a:tab algn="l" pos="5381640"/>
                <a:tab algn="l" pos="6296040"/>
                <a:tab algn="l" pos="7210440"/>
                <a:tab algn="l" pos="8124840"/>
                <a:tab algn="l" pos="9039240"/>
                <a:tab algn="l" pos="9953640"/>
                <a:tab algn="l" pos="10252080"/>
                <a:tab algn="l" pos="10709280"/>
                <a:tab algn="l" pos="10712520"/>
                <a:tab algn="l" pos="10715760"/>
                <a:tab algn="l" pos="10718640"/>
                <a:tab algn="l" pos="10721880"/>
                <a:tab algn="l" pos="10725120"/>
                <a:tab algn="l" pos="10728360"/>
                <a:tab algn="l" pos="10731600"/>
                <a:tab algn="l" pos="10734840"/>
                <a:tab algn="l" pos="10737720"/>
                <a:tab algn="l" pos="10740960"/>
                <a:tab algn="l" pos="10744200"/>
                <a:tab algn="l" pos="10747440"/>
                <a:tab algn="l" pos="10750680"/>
                <a:tab algn="l" pos="10753560"/>
                <a:tab algn="l" pos="10756800"/>
                <a:tab algn="l" pos="10760040"/>
                <a:tab algn="l" pos="1076328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Bitstream Vera Sans"/>
              </a:rPr>
              <a:t>Salario medio</a:t>
            </a: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    £500 ca.  / settimana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299880" indent="0" algn="just">
              <a:lnSpc>
                <a:spcPct val="13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809640"/>
                <a:tab algn="l" pos="1724040"/>
                <a:tab algn="l" pos="2638440"/>
                <a:tab algn="l" pos="3552840"/>
                <a:tab algn="l" pos="4467240"/>
                <a:tab algn="l" pos="5381640"/>
                <a:tab algn="l" pos="6296040"/>
                <a:tab algn="l" pos="7210440"/>
                <a:tab algn="l" pos="8124840"/>
                <a:tab algn="l" pos="9039240"/>
                <a:tab algn="l" pos="9953640"/>
                <a:tab algn="l" pos="10252080"/>
                <a:tab algn="l" pos="10709280"/>
                <a:tab algn="l" pos="10712520"/>
                <a:tab algn="l" pos="10715760"/>
                <a:tab algn="l" pos="10718640"/>
                <a:tab algn="l" pos="10721880"/>
                <a:tab algn="l" pos="10725120"/>
                <a:tab algn="l" pos="10728360"/>
                <a:tab algn="l" pos="10731600"/>
                <a:tab algn="l" pos="10734840"/>
                <a:tab algn="l" pos="10737720"/>
                <a:tab algn="l" pos="10740960"/>
                <a:tab algn="l" pos="10744200"/>
                <a:tab algn="l" pos="10747440"/>
                <a:tab algn="l" pos="10750680"/>
                <a:tab algn="l" pos="10753560"/>
                <a:tab algn="l" pos="10756800"/>
                <a:tab algn="l" pos="10760040"/>
                <a:tab algn="l" pos="1076328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FC744-C7DE-4C25-B3D2-235CE28DA242}" type="slidenum">
              <a:t>40</a:t>
            </a:fld>
          </a:p>
        </p:txBody>
      </p:sp>
    </p:spTree>
  </p:cSld>
  <p:transition spd="med">
    <p:wipe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120" y="344160"/>
            <a:ext cx="80010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STIPENDI FIRST DEGREE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(2012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50880" y="1390320"/>
            <a:ext cx="77724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336600"/>
                <a:tab algn="l" pos="399960"/>
                <a:tab algn="l" pos="849240"/>
                <a:tab algn="l" pos="1298520"/>
                <a:tab algn="l" pos="1747800"/>
                <a:tab algn="l" pos="2197080"/>
                <a:tab algn="l" pos="2646360"/>
                <a:tab algn="l" pos="3095640"/>
                <a:tab algn="l" pos="354492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689880"/>
                <a:tab algn="l" pos="7139160"/>
                <a:tab algn="l" pos="7588080"/>
                <a:tab algn="l" pos="8037360"/>
                <a:tab algn="l" pos="8486640"/>
                <a:tab algn="l" pos="8935920"/>
                <a:tab algn="l" pos="8937720"/>
                <a:tab algn="l" pos="9387000"/>
                <a:tab algn="l" pos="9840960"/>
                <a:tab algn="l" pos="10298160"/>
                <a:tab algn="l" pos="10755360"/>
                <a:tab algn="l" pos="10756800"/>
                <a:tab algn="l" pos="10758600"/>
                <a:tab algn="l" pos="10760040"/>
                <a:tab algn="l" pos="10761840"/>
                <a:tab algn="l" pos="1076328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Stipendio medio neolaureati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£18.000-24.000</a:t>
            </a: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26880" indent="-309240">
              <a:lnSpc>
                <a:spcPct val="150000"/>
              </a:lnSpc>
              <a:spcBef>
                <a:spcPts val="37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399960"/>
                <a:tab algn="l" pos="849240"/>
                <a:tab algn="l" pos="1298520"/>
                <a:tab algn="l" pos="1747800"/>
                <a:tab algn="l" pos="2197080"/>
                <a:tab algn="l" pos="2646360"/>
                <a:tab algn="l" pos="3095640"/>
                <a:tab algn="l" pos="354492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689880"/>
                <a:tab algn="l" pos="7139160"/>
                <a:tab algn="l" pos="7588080"/>
                <a:tab algn="l" pos="8037360"/>
                <a:tab algn="l" pos="8486640"/>
                <a:tab algn="l" pos="8935920"/>
                <a:tab algn="l" pos="8937720"/>
                <a:tab algn="l" pos="9387000"/>
                <a:tab algn="l" pos="9840960"/>
                <a:tab algn="l" pos="10298160"/>
                <a:tab algn="l" pos="10755360"/>
                <a:tab algn="l" pos="10756800"/>
                <a:tab algn="l" pos="10758600"/>
                <a:tab algn="l" pos="10760040"/>
                <a:tab algn="l" pos="10761840"/>
                <a:tab algn="l" pos="1076328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iology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£19.741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6880" indent="-309240">
              <a:lnSpc>
                <a:spcPct val="150000"/>
              </a:lnSpc>
              <a:spcBef>
                <a:spcPts val="37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399960"/>
                <a:tab algn="l" pos="849240"/>
                <a:tab algn="l" pos="1298520"/>
                <a:tab algn="l" pos="1747800"/>
                <a:tab algn="l" pos="2197080"/>
                <a:tab algn="l" pos="2646360"/>
                <a:tab algn="l" pos="3095640"/>
                <a:tab algn="l" pos="354492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689880"/>
                <a:tab algn="l" pos="7139160"/>
                <a:tab algn="l" pos="7588080"/>
                <a:tab algn="l" pos="8037360"/>
                <a:tab algn="l" pos="8486640"/>
                <a:tab algn="l" pos="8935920"/>
                <a:tab algn="l" pos="8937720"/>
                <a:tab algn="l" pos="9387000"/>
                <a:tab algn="l" pos="9840960"/>
                <a:tab algn="l" pos="10298160"/>
                <a:tab algn="l" pos="10755360"/>
                <a:tab algn="l" pos="10756800"/>
                <a:tab algn="l" pos="10758600"/>
                <a:tab algn="l" pos="10760040"/>
                <a:tab algn="l" pos="10761840"/>
                <a:tab algn="l" pos="1076328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ivil engineer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£23.707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6880" indent="-309240">
              <a:lnSpc>
                <a:spcPct val="150000"/>
              </a:lnSpc>
              <a:spcBef>
                <a:spcPts val="37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399960"/>
                <a:tab algn="l" pos="849240"/>
                <a:tab algn="l" pos="1298520"/>
                <a:tab algn="l" pos="1747800"/>
                <a:tab algn="l" pos="2197080"/>
                <a:tab algn="l" pos="2646360"/>
                <a:tab algn="l" pos="3095640"/>
                <a:tab algn="l" pos="354492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689880"/>
                <a:tab algn="l" pos="7139160"/>
                <a:tab algn="l" pos="7588080"/>
                <a:tab algn="l" pos="8037360"/>
                <a:tab algn="l" pos="8486640"/>
                <a:tab algn="l" pos="8935920"/>
                <a:tab algn="l" pos="8937720"/>
                <a:tab algn="l" pos="9387000"/>
                <a:tab algn="l" pos="9840960"/>
                <a:tab algn="l" pos="10298160"/>
                <a:tab algn="l" pos="10755360"/>
                <a:tab algn="l" pos="10756800"/>
                <a:tab algn="l" pos="10758600"/>
                <a:tab algn="l" pos="10760040"/>
                <a:tab algn="l" pos="10761840"/>
                <a:tab algn="l" pos="1076328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omputer scienze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£22.793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6880" indent="-309240">
              <a:lnSpc>
                <a:spcPct val="150000"/>
              </a:lnSpc>
              <a:spcBef>
                <a:spcPts val="37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399960"/>
                <a:tab algn="l" pos="849240"/>
                <a:tab algn="l" pos="1298520"/>
                <a:tab algn="l" pos="1747800"/>
                <a:tab algn="l" pos="2197080"/>
                <a:tab algn="l" pos="2646360"/>
                <a:tab algn="l" pos="3095640"/>
                <a:tab algn="l" pos="354492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689880"/>
                <a:tab algn="l" pos="7139160"/>
                <a:tab algn="l" pos="7588080"/>
                <a:tab algn="l" pos="8037360"/>
                <a:tab algn="l" pos="8486640"/>
                <a:tab algn="l" pos="8935920"/>
                <a:tab algn="l" pos="8937720"/>
                <a:tab algn="l" pos="9387000"/>
                <a:tab algn="l" pos="9840960"/>
                <a:tab algn="l" pos="10298160"/>
                <a:tab algn="l" pos="10755360"/>
                <a:tab algn="l" pos="10756800"/>
                <a:tab algn="l" pos="10758600"/>
                <a:tab algn="l" pos="10760040"/>
                <a:tab algn="l" pos="10761840"/>
                <a:tab algn="l" pos="1076328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octor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£29.383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6880" indent="-309240">
              <a:lnSpc>
                <a:spcPct val="150000"/>
              </a:lnSpc>
              <a:spcBef>
                <a:spcPts val="37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399960"/>
                <a:tab algn="l" pos="849240"/>
                <a:tab algn="l" pos="1298520"/>
                <a:tab algn="l" pos="1747800"/>
                <a:tab algn="l" pos="2197080"/>
                <a:tab algn="l" pos="2646360"/>
                <a:tab algn="l" pos="3095640"/>
                <a:tab algn="l" pos="354492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689880"/>
                <a:tab algn="l" pos="7139160"/>
                <a:tab algn="l" pos="7588080"/>
                <a:tab algn="l" pos="8037360"/>
                <a:tab algn="l" pos="8486640"/>
                <a:tab algn="l" pos="8935920"/>
                <a:tab algn="l" pos="8937720"/>
                <a:tab algn="l" pos="9387000"/>
                <a:tab algn="l" pos="9840960"/>
                <a:tab algn="l" pos="10298160"/>
                <a:tab algn="l" pos="10755360"/>
                <a:tab algn="l" pos="10756800"/>
                <a:tab algn="l" pos="10758600"/>
                <a:tab algn="l" pos="10760040"/>
                <a:tab algn="l" pos="10761840"/>
                <a:tab algn="l" pos="1076328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conomics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£26.940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6880" indent="-309240">
              <a:lnSpc>
                <a:spcPct val="150000"/>
              </a:lnSpc>
              <a:spcBef>
                <a:spcPts val="37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399960"/>
                <a:tab algn="l" pos="849240"/>
                <a:tab algn="l" pos="1298520"/>
                <a:tab algn="l" pos="1747800"/>
                <a:tab algn="l" pos="2197080"/>
                <a:tab algn="l" pos="2646360"/>
                <a:tab algn="l" pos="3095640"/>
                <a:tab algn="l" pos="354492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689880"/>
                <a:tab algn="l" pos="7139160"/>
                <a:tab algn="l" pos="7588080"/>
                <a:tab algn="l" pos="8037360"/>
                <a:tab algn="l" pos="8486640"/>
                <a:tab algn="l" pos="8935920"/>
                <a:tab algn="l" pos="8937720"/>
                <a:tab algn="l" pos="9387000"/>
                <a:tab algn="l" pos="9840960"/>
                <a:tab algn="l" pos="10298160"/>
                <a:tab algn="l" pos="10755360"/>
                <a:tab algn="l" pos="10756800"/>
                <a:tab algn="l" pos="10758600"/>
                <a:tab algn="l" pos="10760040"/>
                <a:tab algn="l" pos="10761840"/>
                <a:tab algn="l" pos="1076328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ducation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£20.992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6880" indent="-309240">
              <a:lnSpc>
                <a:spcPct val="150000"/>
              </a:lnSpc>
              <a:spcBef>
                <a:spcPts val="37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399960"/>
                <a:tab algn="l" pos="849240"/>
                <a:tab algn="l" pos="1298520"/>
                <a:tab algn="l" pos="1747800"/>
                <a:tab algn="l" pos="2197080"/>
                <a:tab algn="l" pos="2646360"/>
                <a:tab algn="l" pos="3095640"/>
                <a:tab algn="l" pos="354492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689880"/>
                <a:tab algn="l" pos="7139160"/>
                <a:tab algn="l" pos="7588080"/>
                <a:tab algn="l" pos="8037360"/>
                <a:tab algn="l" pos="8486640"/>
                <a:tab algn="l" pos="8935920"/>
                <a:tab algn="l" pos="8937720"/>
                <a:tab algn="l" pos="9387000"/>
                <a:tab algn="l" pos="9840960"/>
                <a:tab algn="l" pos="10298160"/>
                <a:tab algn="l" pos="10755360"/>
                <a:tab algn="l" pos="10756800"/>
                <a:tab algn="l" pos="10758600"/>
                <a:tab algn="l" pos="10760040"/>
                <a:tab algn="l" pos="10761840"/>
                <a:tab algn="l" pos="1076328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Law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£19.629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6880" indent="-309240">
              <a:lnSpc>
                <a:spcPct val="150000"/>
              </a:lnSpc>
              <a:spcBef>
                <a:spcPts val="37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399960"/>
                <a:tab algn="l" pos="849240"/>
                <a:tab algn="l" pos="1298520"/>
                <a:tab algn="l" pos="1747800"/>
                <a:tab algn="l" pos="2197080"/>
                <a:tab algn="l" pos="2646360"/>
                <a:tab algn="l" pos="3095640"/>
                <a:tab algn="l" pos="354492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689880"/>
                <a:tab algn="l" pos="7139160"/>
                <a:tab algn="l" pos="7588080"/>
                <a:tab algn="l" pos="8037360"/>
                <a:tab algn="l" pos="8486640"/>
                <a:tab algn="l" pos="8935920"/>
                <a:tab algn="l" pos="8937720"/>
                <a:tab algn="l" pos="9387000"/>
                <a:tab algn="l" pos="9840960"/>
                <a:tab algn="l" pos="10298160"/>
                <a:tab algn="l" pos="10755360"/>
                <a:tab algn="l" pos="10756800"/>
                <a:tab algn="l" pos="10758600"/>
                <a:tab algn="l" pos="10760040"/>
                <a:tab algn="l" pos="10761840"/>
                <a:tab algn="l" pos="1076328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ocial work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£23.434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336600"/>
                <a:tab algn="l" pos="399960"/>
                <a:tab algn="l" pos="849240"/>
                <a:tab algn="l" pos="1298520"/>
                <a:tab algn="l" pos="1747800"/>
                <a:tab algn="l" pos="2197080"/>
                <a:tab algn="l" pos="2646360"/>
                <a:tab algn="l" pos="3095640"/>
                <a:tab algn="l" pos="354492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689880"/>
                <a:tab algn="l" pos="7139160"/>
                <a:tab algn="l" pos="7588080"/>
                <a:tab algn="l" pos="8037360"/>
                <a:tab algn="l" pos="8486640"/>
                <a:tab algn="l" pos="8935920"/>
                <a:tab algn="l" pos="8937720"/>
                <a:tab algn="l" pos="9387000"/>
                <a:tab algn="l" pos="9840960"/>
                <a:tab algn="l" pos="10298160"/>
                <a:tab algn="l" pos="10755360"/>
                <a:tab algn="l" pos="10756800"/>
                <a:tab algn="l" pos="10758600"/>
                <a:tab algn="l" pos="10760040"/>
                <a:tab algn="l" pos="10761840"/>
                <a:tab algn="l" pos="1076328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76" name=""/>
          <p:cNvSpPr/>
          <p:nvPr/>
        </p:nvSpPr>
        <p:spPr>
          <a:xfrm>
            <a:off x="865080" y="5999040"/>
            <a:ext cx="716292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Bitstream Vera Sans"/>
              </a:rPr>
              <a:t>www.thecompleteuniversityguide.co.uk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399C7-DE3E-4016-8EA0-1994761BE8BA}" type="slidenum">
              <a:t>41</a:t>
            </a:fld>
          </a:p>
        </p:txBody>
      </p:sp>
    </p:spTree>
  </p:cSld>
  <p:transition spd="med">
    <p:wipe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120" y="344160"/>
            <a:ext cx="80010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Bitstream Vera Sans"/>
              </a:rPr>
              <a:t>STIPENDIO MEDIO 2013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76360" y="1439640"/>
            <a:ext cx="799128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Waiters &amp; waitresses 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 £7,654 (+8.3%)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5800" indent="0" algn="just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Hairdressers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£10,174 (+0.9%)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5800" indent="0" algn="just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Nursery nurses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£11,163 (-0.4%)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5800" indent="0" algn="just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Receptionists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£12,595 (+1.8%)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5800" indent="0" algn="just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Care workers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£12,804 (+0.9%)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5800" indent="0" algn="just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Secretaries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£16,384 (+1.1%)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5800" indent="0" algn="just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Customer service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£16,525 (+9.5%)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5800" indent="0" algn="just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Gardeners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£17,595 (-1.3%)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5800" indent="0" algn="just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Travel agents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   £18,344 (+10.7%)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5800" indent="0" algn="just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Van drivers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£18,744 (+2.9%)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52E2C-FC9F-4819-A1BD-9264A0117D45}" type="slidenum">
              <a:t>42</a:t>
            </a:fld>
          </a:p>
        </p:txBody>
      </p:sp>
    </p:spTree>
  </p:cSld>
  <p:transition spd="med">
    <p:wipe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344160"/>
            <a:ext cx="80010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Bitstream Vera Sans"/>
              </a:rPr>
              <a:t>STIPENDIO MEDIO 2013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76360" y="1584000"/>
            <a:ext cx="799128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Youth &amp; Community workers 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£20,240 (+2.6%)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 algn="just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Plasterers 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£21,155 (+0.1%)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 algn="just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Bricklayers 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£22,476 (-7.0%)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 algn="just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Bus &amp; coach drivers 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£23,095 (+3.0%)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 algn="just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Mechanics 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£25,238 (-0.7%)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 algn="just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Lorry drivers 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£25,602 (+1.4%)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 algn="just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Nurses 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£26,158 (+0.65)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 algn="just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Welders 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£26,735 (-1.6%)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 algn="just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Plumbers 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Bitstream Vera Sans"/>
              </a:rPr>
              <a:t>£27,832 (-1.2%)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716B8-D0A5-4F2A-8324-35ACDB333AB8}" type="slidenum">
              <a:t>43</a:t>
            </a:fld>
          </a:p>
        </p:txBody>
      </p:sp>
    </p:spTree>
  </p:cSld>
  <p:transition spd="med">
    <p:wipe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344160"/>
            <a:ext cx="80010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Bitstream Vera Sans"/>
              </a:rPr>
              <a:t>STIPENDIO MEDIO 2013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76360" y="1439640"/>
            <a:ext cx="799128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Social workers 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£28,182 (+1.6%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 algn="just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Office managers 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£28,790 (-1.8%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 algn="just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Web designers 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£29,870 (+5.5%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 algn="just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Telecoms engineers 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£32,253 (+5.3%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 algn="just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Teachers 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£32,547 (+1.4%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 algn="just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Civil engineers 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£38,236 (-2.7%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 algn="just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Architects 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£44,024 (+3.3%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 algn="just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Electrical engineers 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£44,430 (+3.7%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 algn="just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Financial advisers 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£46,797 (-0.3%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 algn="just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Dentists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     £53,567 (+14.3%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5880" indent="0" algn="just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Doctors 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itstream Vera Sans"/>
              </a:rPr>
              <a:t>£70,646 (+1.3%)</a:t>
            </a:r>
            <a:endParaRPr b="1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B902D-DFFD-4470-A1B7-748C42B62387}" type="slidenum">
              <a:t>44</a:t>
            </a:fld>
          </a:p>
        </p:txBody>
      </p:sp>
    </p:spTree>
  </p:cSld>
  <p:transition spd="med">
    <p:wipe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45600"/>
            <a:ext cx="77724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TASSE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8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6880" indent="0" algn="just">
              <a:lnSpc>
                <a:spcPct val="1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326880"/>
                <a:tab algn="l" pos="393840"/>
                <a:tab algn="l" pos="843120"/>
                <a:tab algn="l" pos="1292400"/>
                <a:tab algn="l" pos="1741320"/>
                <a:tab algn="l" pos="2190600"/>
                <a:tab algn="l" pos="2639880"/>
                <a:tab algn="l" pos="3089160"/>
                <a:tab algn="l" pos="3538440"/>
                <a:tab algn="l" pos="398772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32680"/>
                <a:tab algn="l" pos="7581960"/>
                <a:tab algn="l" pos="8031240"/>
                <a:tab algn="l" pos="8480520"/>
                <a:tab algn="l" pos="8929800"/>
                <a:tab algn="l" pos="8933040"/>
                <a:tab algn="l" pos="9381960"/>
                <a:tab algn="l" pos="9831240"/>
                <a:tab algn="l" pos="10288440"/>
                <a:tab algn="l" pos="10745640"/>
                <a:tab algn="l" pos="10747440"/>
                <a:tab algn="l" pos="10748880"/>
                <a:tab algn="l" pos="10750680"/>
                <a:tab algn="l" pos="10752120"/>
                <a:tab algn="l" pos="10753560"/>
                <a:tab algn="l" pos="10755360"/>
                <a:tab algn="l" pos="10756800"/>
                <a:tab algn="l" pos="10758600"/>
                <a:tab algn="l" pos="10760040"/>
                <a:tab algn="l" pos="10761840"/>
                <a:tab algn="l" pos="1076328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£</a:t>
            </a: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  0-34.800 = 20% </a:t>
            </a: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da 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£</a:t>
            </a: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 34.800 = 40% 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17520" indent="-293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b2b2b2"/>
              </a:buClr>
              <a:buFont typeface="Wingdings" charset="2"/>
              <a:buChar char=""/>
              <a:tabLst>
                <a:tab algn="l" pos="326880"/>
                <a:tab algn="l" pos="393840"/>
                <a:tab algn="l" pos="843120"/>
                <a:tab algn="l" pos="1292400"/>
                <a:tab algn="l" pos="1741320"/>
                <a:tab algn="l" pos="2190600"/>
                <a:tab algn="l" pos="2639880"/>
                <a:tab algn="l" pos="3089160"/>
                <a:tab algn="l" pos="3538440"/>
                <a:tab algn="l" pos="398772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32680"/>
                <a:tab algn="l" pos="7581960"/>
                <a:tab algn="l" pos="8031240"/>
                <a:tab algn="l" pos="8480520"/>
                <a:tab algn="l" pos="8929800"/>
                <a:tab algn="l" pos="8933040"/>
                <a:tab algn="l" pos="9381960"/>
                <a:tab algn="l" pos="9831240"/>
                <a:tab algn="l" pos="10288440"/>
                <a:tab algn="l" pos="10745640"/>
                <a:tab algn="l" pos="10747440"/>
                <a:tab algn="l" pos="10748880"/>
                <a:tab algn="l" pos="10750680"/>
                <a:tab algn="l" pos="10752120"/>
                <a:tab algn="l" pos="10753560"/>
                <a:tab algn="l" pos="10755360"/>
                <a:tab algn="l" pos="10756800"/>
                <a:tab algn="l" pos="10758600"/>
                <a:tab algn="l" pos="10760040"/>
                <a:tab algn="l" pos="10761840"/>
                <a:tab algn="l" pos="1076328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i="1" lang="en-GB" sz="2200" spc="-1" strike="noStrike">
                <a:solidFill>
                  <a:srgbClr val="000000"/>
                </a:solidFill>
                <a:latin typeface="Bitstream Vera Sans"/>
              </a:rPr>
              <a:t>Gross Income:</a:t>
            </a:r>
            <a:r>
              <a:rPr b="1" i="1" lang="en-GB" sz="22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i="1" lang="en-GB" sz="22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i="1" lang="en-GB" sz="22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i="1" lang="en-GB" sz="22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i="1" lang="en-GB" sz="22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i="1" lang="en-GB" sz="22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i="1" lang="en-GB" sz="2200" spc="-1" strike="noStrike">
                <a:solidFill>
                  <a:srgbClr val="000000"/>
                </a:solidFill>
                <a:latin typeface="Bitstream Vera Sans"/>
              </a:rPr>
              <a:t>£17,000.00</a:t>
            </a:r>
            <a:endParaRPr b="1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marL="317520" indent="-293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b2b2b2"/>
              </a:buClr>
              <a:buFont typeface="Wingdings" charset="2"/>
              <a:buChar char=""/>
              <a:tabLst>
                <a:tab algn="l" pos="326880"/>
                <a:tab algn="l" pos="393840"/>
                <a:tab algn="l" pos="843120"/>
                <a:tab algn="l" pos="1292400"/>
                <a:tab algn="l" pos="1741320"/>
                <a:tab algn="l" pos="2190600"/>
                <a:tab algn="l" pos="2639880"/>
                <a:tab algn="l" pos="3089160"/>
                <a:tab algn="l" pos="3538440"/>
                <a:tab algn="l" pos="398772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32680"/>
                <a:tab algn="l" pos="7581960"/>
                <a:tab algn="l" pos="8031240"/>
                <a:tab algn="l" pos="8480520"/>
                <a:tab algn="l" pos="8929800"/>
                <a:tab algn="l" pos="8933040"/>
                <a:tab algn="l" pos="9381960"/>
                <a:tab algn="l" pos="9831240"/>
                <a:tab algn="l" pos="10288440"/>
                <a:tab algn="l" pos="10745640"/>
                <a:tab algn="l" pos="10747440"/>
                <a:tab algn="l" pos="10748880"/>
                <a:tab algn="l" pos="10750680"/>
                <a:tab algn="l" pos="10752120"/>
                <a:tab algn="l" pos="10753560"/>
                <a:tab algn="l" pos="10755360"/>
                <a:tab algn="l" pos="10756800"/>
                <a:tab algn="l" pos="10758600"/>
                <a:tab algn="l" pos="10760040"/>
                <a:tab algn="l" pos="10761840"/>
                <a:tab algn="l" pos="1076328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Tax-Free Allowance: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£6,035.00</a:t>
            </a:r>
            <a:endParaRPr b="1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marL="317520" indent="-293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b2b2b2"/>
              </a:buClr>
              <a:buFont typeface="Wingdings" charset="2"/>
              <a:buChar char=""/>
              <a:tabLst>
                <a:tab algn="l" pos="326880"/>
                <a:tab algn="l" pos="393840"/>
                <a:tab algn="l" pos="843120"/>
                <a:tab algn="l" pos="1292400"/>
                <a:tab algn="l" pos="1741320"/>
                <a:tab algn="l" pos="2190600"/>
                <a:tab algn="l" pos="2639880"/>
                <a:tab algn="l" pos="3089160"/>
                <a:tab algn="l" pos="3538440"/>
                <a:tab algn="l" pos="398772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32680"/>
                <a:tab algn="l" pos="7581960"/>
                <a:tab algn="l" pos="8031240"/>
                <a:tab algn="l" pos="8480520"/>
                <a:tab algn="l" pos="8929800"/>
                <a:tab algn="l" pos="8933040"/>
                <a:tab algn="l" pos="9381960"/>
                <a:tab algn="l" pos="9831240"/>
                <a:tab algn="l" pos="10288440"/>
                <a:tab algn="l" pos="10745640"/>
                <a:tab algn="l" pos="10747440"/>
                <a:tab algn="l" pos="10748880"/>
                <a:tab algn="l" pos="10750680"/>
                <a:tab algn="l" pos="10752120"/>
                <a:tab algn="l" pos="10753560"/>
                <a:tab algn="l" pos="10755360"/>
                <a:tab algn="l" pos="10756800"/>
                <a:tab algn="l" pos="10758600"/>
                <a:tab algn="l" pos="10760040"/>
                <a:tab algn="l" pos="10761840"/>
                <a:tab algn="l" pos="1076328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Taxable Amount: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£10,965.00</a:t>
            </a:r>
            <a:endParaRPr b="1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marL="317520" indent="-293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b2b2b2"/>
              </a:buClr>
              <a:buFont typeface="Wingdings" charset="2"/>
              <a:buChar char=""/>
              <a:tabLst>
                <a:tab algn="l" pos="326880"/>
                <a:tab algn="l" pos="393840"/>
                <a:tab algn="l" pos="843120"/>
                <a:tab algn="l" pos="1292400"/>
                <a:tab algn="l" pos="1741320"/>
                <a:tab algn="l" pos="2190600"/>
                <a:tab algn="l" pos="2639880"/>
                <a:tab algn="l" pos="3089160"/>
                <a:tab algn="l" pos="3538440"/>
                <a:tab algn="l" pos="398772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32680"/>
                <a:tab algn="l" pos="7581960"/>
                <a:tab algn="l" pos="8031240"/>
                <a:tab algn="l" pos="8480520"/>
                <a:tab algn="l" pos="8929800"/>
                <a:tab algn="l" pos="8933040"/>
                <a:tab algn="l" pos="9381960"/>
                <a:tab algn="l" pos="9831240"/>
                <a:tab algn="l" pos="10288440"/>
                <a:tab algn="l" pos="10745640"/>
                <a:tab algn="l" pos="10747440"/>
                <a:tab algn="l" pos="10748880"/>
                <a:tab algn="l" pos="10750680"/>
                <a:tab algn="l" pos="10752120"/>
                <a:tab algn="l" pos="10753560"/>
                <a:tab algn="l" pos="10755360"/>
                <a:tab algn="l" pos="10756800"/>
                <a:tab algn="l" pos="10758600"/>
                <a:tab algn="l" pos="10760040"/>
                <a:tab algn="l" pos="10761840"/>
                <a:tab algn="l" pos="1076328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Tax: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£2,193.00</a:t>
            </a:r>
            <a:endParaRPr b="1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marL="317520" indent="-293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b2b2b2"/>
              </a:buClr>
              <a:buFont typeface="Wingdings" charset="2"/>
              <a:buChar char=""/>
              <a:tabLst>
                <a:tab algn="l" pos="326880"/>
                <a:tab algn="l" pos="393840"/>
                <a:tab algn="l" pos="843120"/>
                <a:tab algn="l" pos="1292400"/>
                <a:tab algn="l" pos="1741320"/>
                <a:tab algn="l" pos="2190600"/>
                <a:tab algn="l" pos="2639880"/>
                <a:tab algn="l" pos="3089160"/>
                <a:tab algn="l" pos="3538440"/>
                <a:tab algn="l" pos="398772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32680"/>
                <a:tab algn="l" pos="7581960"/>
                <a:tab algn="l" pos="8031240"/>
                <a:tab algn="l" pos="8480520"/>
                <a:tab algn="l" pos="8929800"/>
                <a:tab algn="l" pos="8933040"/>
                <a:tab algn="l" pos="9381960"/>
                <a:tab algn="l" pos="9831240"/>
                <a:tab algn="l" pos="10288440"/>
                <a:tab algn="l" pos="10745640"/>
                <a:tab algn="l" pos="10747440"/>
                <a:tab algn="l" pos="10748880"/>
                <a:tab algn="l" pos="10750680"/>
                <a:tab algn="l" pos="10752120"/>
                <a:tab algn="l" pos="10753560"/>
                <a:tab algn="l" pos="10755360"/>
                <a:tab algn="l" pos="10756800"/>
                <a:tab algn="l" pos="10758600"/>
                <a:tab algn="l" pos="10760040"/>
                <a:tab algn="l" pos="10761840"/>
                <a:tab algn="l" pos="1076328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National Insurance: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£1,355.20</a:t>
            </a:r>
            <a:endParaRPr b="1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marL="317520" indent="-293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b2b2b2"/>
              </a:buClr>
              <a:buFont typeface="Wingdings" charset="2"/>
              <a:buChar char=""/>
              <a:tabLst>
                <a:tab algn="l" pos="326880"/>
                <a:tab algn="l" pos="393840"/>
                <a:tab algn="l" pos="843120"/>
                <a:tab algn="l" pos="1292400"/>
                <a:tab algn="l" pos="1741320"/>
                <a:tab algn="l" pos="2190600"/>
                <a:tab algn="l" pos="2639880"/>
                <a:tab algn="l" pos="3089160"/>
                <a:tab algn="l" pos="3538440"/>
                <a:tab algn="l" pos="398772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32680"/>
                <a:tab algn="l" pos="7581960"/>
                <a:tab algn="l" pos="8031240"/>
                <a:tab algn="l" pos="8480520"/>
                <a:tab algn="l" pos="8929800"/>
                <a:tab algn="l" pos="8933040"/>
                <a:tab algn="l" pos="9381960"/>
                <a:tab algn="l" pos="9831240"/>
                <a:tab algn="l" pos="10288440"/>
                <a:tab algn="l" pos="10745640"/>
                <a:tab algn="l" pos="10747440"/>
                <a:tab algn="l" pos="10748880"/>
                <a:tab algn="l" pos="10750680"/>
                <a:tab algn="l" pos="10752120"/>
                <a:tab algn="l" pos="10753560"/>
                <a:tab algn="l" pos="10755360"/>
                <a:tab algn="l" pos="10756800"/>
                <a:tab algn="l" pos="10758600"/>
                <a:tab algn="l" pos="10760040"/>
                <a:tab algn="l" pos="10761840"/>
                <a:tab algn="l" pos="1076328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Bitstream Vera Sans"/>
              </a:rPr>
              <a:t>Net Take-Home: </a:t>
            </a:r>
            <a:r>
              <a:rPr b="1" lang="en-GB" sz="22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Bitstream Vera Sans"/>
              </a:rPr>
              <a:t>£13,451.80</a:t>
            </a:r>
            <a:endParaRPr b="1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marL="326880" indent="0" algn="ctr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326880"/>
                <a:tab algn="l" pos="393840"/>
                <a:tab algn="l" pos="843120"/>
                <a:tab algn="l" pos="1292400"/>
                <a:tab algn="l" pos="1741320"/>
                <a:tab algn="l" pos="2190600"/>
                <a:tab algn="l" pos="2639880"/>
                <a:tab algn="l" pos="3089160"/>
                <a:tab algn="l" pos="3538440"/>
                <a:tab algn="l" pos="398772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32680"/>
                <a:tab algn="l" pos="7581960"/>
                <a:tab algn="l" pos="8031240"/>
                <a:tab algn="l" pos="8480520"/>
                <a:tab algn="l" pos="8929800"/>
                <a:tab algn="l" pos="8933040"/>
                <a:tab algn="l" pos="9381960"/>
                <a:tab algn="l" pos="9831240"/>
                <a:tab algn="l" pos="10288440"/>
                <a:tab algn="l" pos="10745640"/>
                <a:tab algn="l" pos="10747440"/>
                <a:tab algn="l" pos="10748880"/>
                <a:tab algn="l" pos="10750680"/>
                <a:tab algn="l" pos="10752120"/>
                <a:tab algn="l" pos="10753560"/>
                <a:tab algn="l" pos="10755360"/>
                <a:tab algn="l" pos="10756800"/>
                <a:tab algn="l" pos="10758600"/>
                <a:tab algn="l" pos="10760040"/>
                <a:tab algn="l" pos="10761840"/>
                <a:tab algn="l" pos="1076328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www.hmrc.gov.uk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1EFC1-17E9-4443-AE0B-E7E4617600EC}" type="slidenum">
              <a:t>45</a:t>
            </a:fld>
          </a:p>
        </p:txBody>
      </p:sp>
    </p:spTree>
  </p:cSld>
  <p:transition spd="med">
    <p:wipe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45600"/>
            <a:ext cx="77724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DIRITTO DEL LAVORO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522440"/>
            <a:ext cx="7772400" cy="86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 algn="just">
              <a:lnSpc>
                <a:spcPct val="160000"/>
              </a:lnSpc>
              <a:spcBef>
                <a:spcPts val="601"/>
              </a:spcBef>
              <a:spcAft>
                <a:spcPts val="601"/>
              </a:spcAft>
              <a:buClr>
                <a:srgbClr val="b2b2b2"/>
              </a:buClr>
              <a:buFont typeface="Wingdings" charset="2"/>
              <a:buChar char=""/>
              <a:tabLst>
                <a:tab algn="l" pos="29052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Orario di lavoro: 37- 40 ore alla settimana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290520" indent="-290520" algn="just">
              <a:lnSpc>
                <a:spcPct val="160000"/>
              </a:lnSpc>
              <a:spcBef>
                <a:spcPts val="601"/>
              </a:spcBef>
              <a:spcAft>
                <a:spcPts val="601"/>
              </a:spcAft>
              <a:buClr>
                <a:srgbClr val="b2b2b2"/>
              </a:buClr>
              <a:buFont typeface="Wingdings" charset="2"/>
              <a:buChar char=""/>
              <a:tabLst>
                <a:tab algn="l" pos="29052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Orario flessibile molto comune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290520" indent="-290520" algn="just">
              <a:lnSpc>
                <a:spcPct val="160000"/>
              </a:lnSpc>
              <a:spcBef>
                <a:spcPts val="601"/>
              </a:spcBef>
              <a:spcAft>
                <a:spcPts val="601"/>
              </a:spcAft>
              <a:buClr>
                <a:srgbClr val="b2b2b2"/>
              </a:buClr>
              <a:buFont typeface="Wingdings" charset="2"/>
              <a:buChar char=""/>
              <a:tabLst>
                <a:tab algn="l" pos="29052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4 settimane di ferie retribuite all’anno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290520" indent="-290520" algn="just">
              <a:lnSpc>
                <a:spcPct val="160000"/>
              </a:lnSpc>
              <a:spcBef>
                <a:spcPts val="601"/>
              </a:spcBef>
              <a:spcAft>
                <a:spcPts val="601"/>
              </a:spcAft>
              <a:buClr>
                <a:srgbClr val="b2b2b2"/>
              </a:buClr>
              <a:buFont typeface="Wingdings" charset="2"/>
              <a:buChar char=""/>
              <a:tabLst>
                <a:tab algn="l" pos="29052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ausa pranzo di 30 minuti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290520" indent="-290520" algn="just">
              <a:lnSpc>
                <a:spcPct val="160000"/>
              </a:lnSpc>
              <a:spcBef>
                <a:spcPts val="601"/>
              </a:spcBef>
              <a:spcAft>
                <a:spcPts val="601"/>
              </a:spcAft>
              <a:buClr>
                <a:srgbClr val="b2b2b2"/>
              </a:buClr>
              <a:buFont typeface="Wingdings" charset="2"/>
              <a:buChar char=""/>
              <a:tabLst>
                <a:tab algn="l" pos="29052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Disdetta e licenziamento veloce 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299880" indent="0" algn="just">
              <a:lnSpc>
                <a:spcPct val="1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29052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www.tuc.org.uk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 (sindacato)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2073C-0F3E-49F5-A525-5552ACAC02F7}" type="slidenum">
              <a:t>46</a:t>
            </a:fld>
          </a:p>
        </p:txBody>
      </p:sp>
    </p:spTree>
  </p:cSld>
  <p:transition spd="med">
    <p:wipe dir="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345600"/>
            <a:ext cx="77724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SICUREZZA SOCIALE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916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 algn="just">
              <a:lnSpc>
                <a:spcPct val="190000"/>
              </a:lnSpc>
              <a:spcBef>
                <a:spcPts val="601"/>
              </a:spcBef>
              <a:spcAft>
                <a:spcPts val="601"/>
              </a:spcAft>
              <a:buClr>
                <a:srgbClr val="b2b2b2"/>
              </a:buClr>
              <a:buFont typeface="Wingdings" charset="2"/>
              <a:buChar char=""/>
              <a:tabLst>
                <a:tab algn="l" pos="29052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Contributi dedotti direttamente dal salario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290520" indent="-290520" algn="just">
              <a:lnSpc>
                <a:spcPct val="190000"/>
              </a:lnSpc>
              <a:spcBef>
                <a:spcPts val="601"/>
              </a:spcBef>
              <a:spcAft>
                <a:spcPts val="601"/>
              </a:spcAft>
              <a:buClr>
                <a:srgbClr val="b2b2b2"/>
              </a:buClr>
              <a:buFont typeface="Wingdings" charset="2"/>
              <a:buChar char=""/>
              <a:tabLst>
                <a:tab algn="l" pos="29052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Contributi per la previdenza sociale 8 -11% 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290520" indent="-290520" algn="just">
              <a:lnSpc>
                <a:spcPct val="190000"/>
              </a:lnSpc>
              <a:spcBef>
                <a:spcPts val="601"/>
              </a:spcBef>
              <a:spcAft>
                <a:spcPts val="601"/>
              </a:spcAft>
              <a:buClr>
                <a:srgbClr val="b2b2b2"/>
              </a:buClr>
              <a:buFont typeface="Wingdings" charset="2"/>
              <a:buChar char=""/>
              <a:tabLst>
                <a:tab algn="l" pos="29052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ensione privata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290520" indent="-290520" algn="just">
              <a:lnSpc>
                <a:spcPct val="190000"/>
              </a:lnSpc>
              <a:spcBef>
                <a:spcPts val="601"/>
              </a:spcBef>
              <a:spcAft>
                <a:spcPts val="601"/>
              </a:spcAft>
              <a:buClr>
                <a:srgbClr val="b2b2b2"/>
              </a:buClr>
              <a:buFont typeface="Wingdings" charset="2"/>
              <a:buChar char=""/>
              <a:tabLst>
                <a:tab algn="l" pos="29052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Numero obbligatorio della Previdenza Sociale www.dwp.gov.uk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299880" indent="0" algn="just">
              <a:lnSpc>
                <a:spcPct val="1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29052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D37A1-A8D3-4C14-A1B3-541A4F869ECE}" type="slidenum">
              <a:t>47</a:t>
            </a:fld>
          </a:p>
        </p:txBody>
      </p:sp>
    </p:spTree>
  </p:cSld>
  <p:transition spd="med">
    <p:wipe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45600"/>
            <a:ext cx="77724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DA SAPERE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20720" y="1549440"/>
            <a:ext cx="7740720" cy="968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b2b2b2"/>
              </a:buClr>
              <a:buFont typeface="Wingdings" charset="2"/>
              <a:buChar char=""/>
              <a:tabLst>
                <a:tab algn="l" pos="29052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Bitstream Vera Sans"/>
              </a:rPr>
              <a:t>Casellario giudiziario 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(Criminal Records Bureau, anche “enhanced discolosure”) www.crb.gov.uk </a:t>
            </a:r>
            <a:endParaRPr b="1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marL="290520" indent="-29052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b2b2b2"/>
              </a:buClr>
              <a:buFont typeface="Wingdings" charset="2"/>
              <a:buChar char=""/>
              <a:tabLst>
                <a:tab algn="l" pos="29052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Bitstream Vera Sans"/>
              </a:rPr>
              <a:t>Macchina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: tassa di circolazione,  assicurazione britannica e certificato del Ministry of Transport (MOT) dopo 6 mesi di permanenza </a:t>
            </a:r>
            <a:endParaRPr b="1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marL="299880" indent="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29052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www.dvla.gov.uk </a:t>
            </a:r>
            <a:r>
              <a:rPr b="1" lang="en-GB" sz="2200" spc="-1" strike="noStrike">
                <a:solidFill>
                  <a:srgbClr val="800080"/>
                </a:solidFill>
                <a:latin typeface="Bitstream Vera Sans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www.direct.gov.uk </a:t>
            </a:r>
            <a:endParaRPr b="1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marL="290520" indent="-290520" algn="just">
              <a:lnSpc>
                <a:spcPct val="95000"/>
              </a:lnSpc>
              <a:spcBef>
                <a:spcPts val="799"/>
              </a:spcBef>
              <a:spcAft>
                <a:spcPts val="799"/>
              </a:spcAft>
              <a:buClr>
                <a:srgbClr val="b2b2b2"/>
              </a:buClr>
              <a:buFont typeface="Wingdings" charset="2"/>
              <a:buChar char=""/>
              <a:tabLst>
                <a:tab algn="l" pos="29052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Bitstream Vera Sans"/>
              </a:rPr>
              <a:t>Conto corrente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: passaporto e lettera o fattura con l’indirizzo di domicilio nel Regno Unito, meglio  lettera del datore di lavoro</a:t>
            </a:r>
            <a:r>
              <a:rPr b="1" lang="en-GB" sz="2200" spc="-1" strike="noStrike">
                <a:solidFill>
                  <a:srgbClr val="000000"/>
                </a:solidFill>
                <a:latin typeface="Bitstream Vera Sans"/>
              </a:rPr>
              <a:t>;</a:t>
            </a:r>
            <a:endParaRPr b="1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marL="299880" indent="0" algn="just">
              <a:lnSpc>
                <a:spcPct val="95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29052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299880" indent="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29052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B1D3E-2805-4ABD-8A58-C12BFC13EDF8}" type="slidenum">
              <a:t>48</a:t>
            </a:fld>
          </a:p>
        </p:txBody>
      </p:sp>
    </p:spTree>
  </p:cSld>
  <p:transition spd="med">
    <p:wipe dir="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345600"/>
            <a:ext cx="77724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COSTO DELLA VITA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76360" y="1119240"/>
            <a:ext cx="82072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6880" indent="0" algn="just">
              <a:lnSpc>
                <a:spcPct val="1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l mese in una città con 100.000 abitanti: Blackburn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7520" indent="-293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b2b2b2"/>
              </a:buClr>
              <a:buFont typeface="Wingdings" charset="2"/>
              <a:buChar char="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ffitto camera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£ 450-600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7520" indent="-293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b2b2b2"/>
              </a:buClr>
              <a:buFont typeface="Wingdings" charset="2"/>
              <a:buChar char="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limentazione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£ 250+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7520" indent="-293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b2b2b2"/>
              </a:buClr>
              <a:buFont typeface="Wingdings" charset="2"/>
              <a:buChar char="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Gas e elettricità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£ 80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7520" indent="-293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b2b2b2"/>
              </a:buClr>
              <a:buFont typeface="Wingdings" charset="2"/>
              <a:buChar char="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Internet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£ 15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7520" indent="-293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b2b2b2"/>
              </a:buClr>
              <a:buFont typeface="Wingdings" charset="2"/>
              <a:buChar char="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rasporto locale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£ 20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          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città grandi: +30%, Londra: minimo + 50%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 algn="ctr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Bitstream Vera Sans"/>
              </a:rPr>
              <a:t>http://international.studentcalculator.org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 algn="ctr">
              <a:lnSpc>
                <a:spcPct val="8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www.numbeo.com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26880" indent="0" algn="ctr">
              <a:lnSpc>
                <a:spcPct val="1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3" name=""/>
          <p:cNvSpPr/>
          <p:nvPr/>
        </p:nvSpPr>
        <p:spPr>
          <a:xfrm>
            <a:off x="5832360" y="1944720"/>
            <a:ext cx="2735280" cy="2232000"/>
          </a:xfrm>
          <a:prstGeom prst="roundRect">
            <a:avLst>
              <a:gd name="adj" fmla="val 79"/>
            </a:avLst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totale: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£ 810-960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(EUR 1010-1200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C7E19-F791-4C34-A17E-8E2B0DB40647}" type="slidenum">
              <a:t>49</a:t>
            </a:fld>
          </a:p>
        </p:txBody>
      </p:sp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402840"/>
            <a:ext cx="80010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SETTORI ECONOMICI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5280" y="1979640"/>
            <a:ext cx="3276720" cy="64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0">
              <a:lnSpc>
                <a:spcPct val="200000"/>
              </a:lnSpc>
              <a:spcBef>
                <a:spcPts val="1451"/>
              </a:spcBef>
              <a:spcAft>
                <a:spcPts val="1451"/>
              </a:spcAft>
              <a:buNone/>
              <a:tabLst>
                <a:tab algn="l" pos="0"/>
                <a:tab algn="l" pos="334800"/>
                <a:tab algn="l" pos="38592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2764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4760"/>
                <a:tab algn="l" pos="9381960"/>
                <a:tab algn="l" pos="9839160"/>
                <a:tab algn="l" pos="10296360"/>
                <a:tab algn="l" pos="10753560"/>
                <a:tab algn="l" pos="10755360"/>
                <a:tab algn="l" pos="10756800"/>
                <a:tab algn="l" pos="10758600"/>
                <a:tab algn="l" pos="10760040"/>
                <a:tab algn="l" pos="10761840"/>
                <a:tab algn="l" pos="1076328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Servizi</a:t>
            </a: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200000"/>
              </a:lnSpc>
              <a:spcBef>
                <a:spcPts val="1451"/>
              </a:spcBef>
              <a:spcAft>
                <a:spcPts val="1451"/>
              </a:spcAft>
              <a:buNone/>
              <a:tabLst>
                <a:tab algn="l" pos="0"/>
                <a:tab algn="l" pos="334800"/>
                <a:tab algn="l" pos="38592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2764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4760"/>
                <a:tab algn="l" pos="9381960"/>
                <a:tab algn="l" pos="9839160"/>
                <a:tab algn="l" pos="10296360"/>
                <a:tab algn="l" pos="10753560"/>
                <a:tab algn="l" pos="10755360"/>
                <a:tab algn="l" pos="10756800"/>
                <a:tab algn="l" pos="10758600"/>
                <a:tab algn="l" pos="10760040"/>
                <a:tab algn="l" pos="10761840"/>
                <a:tab algn="l" pos="1076328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Industria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0">
              <a:lnSpc>
                <a:spcPct val="200000"/>
              </a:lnSpc>
              <a:spcBef>
                <a:spcPts val="1451"/>
              </a:spcBef>
              <a:spcAft>
                <a:spcPts val="1451"/>
              </a:spcAft>
              <a:buNone/>
              <a:tabLst>
                <a:tab algn="l" pos="0"/>
                <a:tab algn="l" pos="334800"/>
                <a:tab algn="l" pos="38592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2764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4760"/>
                <a:tab algn="l" pos="9381960"/>
                <a:tab algn="l" pos="9839160"/>
                <a:tab algn="l" pos="10296360"/>
                <a:tab algn="l" pos="10753560"/>
                <a:tab algn="l" pos="10755360"/>
                <a:tab algn="l" pos="10756800"/>
                <a:tab algn="l" pos="10758600"/>
                <a:tab algn="l" pos="10760040"/>
                <a:tab algn="l" pos="10761840"/>
                <a:tab algn="l" pos="1076328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Agricoltura </a:t>
            </a: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9" name=""/>
          <p:cNvSpPr/>
          <p:nvPr/>
        </p:nvSpPr>
        <p:spPr>
          <a:xfrm>
            <a:off x="4952880" y="2057400"/>
            <a:ext cx="3353040" cy="37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spcBef>
                <a:spcPts val="1500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73%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200000"/>
              </a:lnSpc>
              <a:spcBef>
                <a:spcPts val="1500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26%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200000"/>
              </a:lnSpc>
              <a:spcBef>
                <a:spcPts val="1500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1%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AB34F-0B9F-47D2-98B1-7BB737419294}" type="slidenum">
              <a:t>5</a:t>
            </a:fld>
          </a:p>
        </p:txBody>
      </p:sp>
    </p:spTree>
  </p:cSld>
  <p:transition spd="med">
    <p:wipe dir="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345600"/>
            <a:ext cx="77724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ALTERNATIVE AL LAVORO</a:t>
            </a: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 /1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785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SERVIZIO CIVILE NAZIONALE VOLONTARIO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per giovani dai 18 ai 28 anni, durata un anno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ctr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www.serviziocivile.it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just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SERVIZIO VOLONTARIO EUROPEO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per giovani dai 18 ai 30 anni, durata da 6 a 12 mesi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ctr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www.agenziagiovani.it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ctr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rasmusPlus per la formazione professionale  tramite stage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www.erasmusplus.it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B1557-B2E5-4B05-B54F-10A68DBD9394}" type="slidenum">
              <a:t>50</a:t>
            </a:fld>
          </a:p>
        </p:txBody>
      </p:sp>
    </p:spTree>
  </p:cSld>
  <p:transition spd="med">
    <p:wipe dir="d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45600"/>
            <a:ext cx="77724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ALTERNATIVE AL LAVORO</a:t>
            </a: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 /2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802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 algn="just">
              <a:lnSpc>
                <a:spcPct val="100000"/>
              </a:lnSpc>
              <a:spcBef>
                <a:spcPts val="1451"/>
              </a:spcBef>
              <a:spcAft>
                <a:spcPts val="601"/>
              </a:spcAft>
              <a:buClr>
                <a:srgbClr val="000000"/>
              </a:buClr>
              <a:buFont typeface="Bitstream Vera Sans"/>
              <a:buChar char="•"/>
              <a:tabLst>
                <a:tab algn="l" pos="29052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STAGE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 autoorganizzato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290520" indent="-290520" algn="just">
              <a:lnSpc>
                <a:spcPct val="100000"/>
              </a:lnSpc>
              <a:spcBef>
                <a:spcPts val="1451"/>
              </a:spcBef>
              <a:spcAft>
                <a:spcPts val="601"/>
              </a:spcAft>
              <a:buClr>
                <a:srgbClr val="000000"/>
              </a:buClr>
              <a:buFont typeface="Bitstream Vera Sans"/>
              <a:buChar char="•"/>
              <a:tabLst>
                <a:tab algn="l" pos="29052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ALLA PARI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  per giovani dai 18 ai 28 anni per una durata, a seconda del paese, dai 3 ai 12 mesi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290520" indent="-290520" algn="just">
              <a:lnSpc>
                <a:spcPct val="100000"/>
              </a:lnSpc>
              <a:spcBef>
                <a:spcPts val="1451"/>
              </a:spcBef>
              <a:spcAft>
                <a:spcPts val="601"/>
              </a:spcAft>
              <a:buClr>
                <a:srgbClr val="000000"/>
              </a:buClr>
              <a:buFont typeface="Bitstream Vera Sans"/>
              <a:buChar char="•"/>
              <a:tabLst>
                <a:tab algn="l" pos="29052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CORSO DI LINGUA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 a pagamento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290520" indent="-290520" algn="just">
              <a:lnSpc>
                <a:spcPct val="100000"/>
              </a:lnSpc>
              <a:spcBef>
                <a:spcPts val="1451"/>
              </a:spcBef>
              <a:spcAft>
                <a:spcPts val="601"/>
              </a:spcAft>
              <a:buClr>
                <a:srgbClr val="000000"/>
              </a:buClr>
              <a:buFont typeface="Bitstream Vera Sans"/>
              <a:buChar char="•"/>
              <a:tabLst>
                <a:tab algn="l" pos="29052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FONDO SOCIALE EUROPEO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 se residente sul posto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290520" indent="-290520" algn="just">
              <a:lnSpc>
                <a:spcPct val="100000"/>
              </a:lnSpc>
              <a:spcBef>
                <a:spcPts val="1451"/>
              </a:spcBef>
              <a:spcAft>
                <a:spcPts val="601"/>
              </a:spcAft>
              <a:buClr>
                <a:srgbClr val="000000"/>
              </a:buClr>
              <a:buFont typeface="Bitstream Vera Sans"/>
              <a:buChar char="•"/>
              <a:tabLst>
                <a:tab algn="l" pos="29052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STUDIO UNIVERSITARIO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299880" indent="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29052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19ED8-CACB-4ADF-9655-ED0699F055CC}" type="slidenum">
              <a:t>51</a:t>
            </a:fld>
          </a:p>
        </p:txBody>
      </p:sp>
    </p:spTree>
  </p:cSld>
  <p:transition spd="med">
    <p:wipe dir="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120" y="394920"/>
            <a:ext cx="7767720" cy="8874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EUROCULTURA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9" name=""/>
          <p:cNvSpPr/>
          <p:nvPr/>
        </p:nvSpPr>
        <p:spPr>
          <a:xfrm>
            <a:off x="804960" y="2486160"/>
            <a:ext cx="2047680" cy="21445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voro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g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olontariato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udio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00" name=""/>
          <p:cNvSpPr/>
          <p:nvPr/>
        </p:nvSpPr>
        <p:spPr>
          <a:xfrm>
            <a:off x="5632560" y="2486160"/>
            <a:ext cx="2925720" cy="21445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7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ulenza orientativ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57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perto in line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57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rsi di lingu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5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cambi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01" name=""/>
          <p:cNvSpPr/>
          <p:nvPr/>
        </p:nvSpPr>
        <p:spPr>
          <a:xfrm>
            <a:off x="1584360" y="1542960"/>
            <a:ext cx="6335640" cy="51444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formazione, formazione e consulenza sull’estero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02" name=""/>
          <p:cNvSpPr/>
          <p:nvPr/>
        </p:nvSpPr>
        <p:spPr>
          <a:xfrm>
            <a:off x="3240000" y="2486160"/>
            <a:ext cx="2027160" cy="21445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reers Abroa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5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bi-Uni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5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bi-Flash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5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stinazioni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03" name=""/>
          <p:cNvSpPr/>
          <p:nvPr/>
        </p:nvSpPr>
        <p:spPr>
          <a:xfrm>
            <a:off x="3258360" y="5746680"/>
            <a:ext cx="2928600" cy="4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ww.eurocultura.it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695600" y="4873680"/>
            <a:ext cx="2371680" cy="7207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5580000" y="4859280"/>
            <a:ext cx="1832040" cy="72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4E310-7BE7-45EF-A68A-DB00DB9395F4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Bitstream Vera Sans"/>
              </a:rPr>
              <a:t>Grazie per l’attenzione.</a:t>
            </a:r>
            <a:endParaRPr b="1" lang="en-US" sz="37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 algn="just">
              <a:lnSpc>
                <a:spcPct val="130000"/>
              </a:lnSpc>
              <a:spcBef>
                <a:spcPts val="924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 algn="just">
              <a:lnSpc>
                <a:spcPct val="130000"/>
              </a:lnSpc>
              <a:spcBef>
                <a:spcPts val="924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itstream Vera Sans"/>
              </a:rPr>
              <a:t>Bernd Faas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Eurocultur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Via Mercato Nuovo 44 G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36100 Vicenz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el. 0444-964770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Info@eurocultura.i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www.eurocultura.it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4572000" y="2952720"/>
            <a:ext cx="4114800" cy="25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8D03B-73C0-4A1C-8691-10CABCAAEA28}" type="slidenum">
              <a:t>53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402840"/>
            <a:ext cx="80010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COME CERCARE LAVORO?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750680"/>
            <a:ext cx="7772400" cy="81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68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Le principali strade della ricerca sono: 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17520" indent="-293760"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Bitstream Vera Sans"/>
              <a:buChar char="•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Ufficio del lavoro europeo, statale o privato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17520" indent="-293760"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Bitstream Vera Sans"/>
              <a:buChar char="•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Siti Internet con offerte di lavoro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17520" indent="-293760"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Bitstream Vera Sans"/>
              <a:buChar char="•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Candidatura spontanea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17520" indent="-293760"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Bitstream Vera Sans"/>
              <a:buChar char="•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Associazioni e albi professionali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17520" indent="-293760"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Bitstream Vera Sans"/>
              <a:buChar char="•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Networking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9BF3E-4F91-4E57-AFF6-953BDE52FC63}" type="slidenum">
              <a:t>6</a:t>
            </a:fld>
          </a:p>
        </p:txBody>
      </p:sp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431640"/>
            <a:ext cx="8001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Bitstream Vera Sans"/>
              </a:rPr>
              <a:t>EURES “EURopean Employment Services“/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39520"/>
            <a:ext cx="7772400" cy="65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68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I principali obiettivi di EURES sono: 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17520" indent="-29376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Bitstream Vera Sans"/>
              <a:buChar char="•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informare, orientare e consigliare i lavoratori candidati alla mobilità sulle possibilità di lavoro e sulle condizioni di vita e di lavoro nello Spazio economico europeo;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26880" indent="0" algn="just">
              <a:lnSpc>
                <a:spcPct val="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17520" indent="-29376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Bitstream Vera Sans"/>
              <a:buChar char="•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assistere i datori di lavoro che intendono assumere lavoratori di altri paesi.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26880" indent="0" algn="ctr">
              <a:lnSpc>
                <a:spcPct val="13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itstream Vera Sans"/>
              </a:rPr>
              <a:t>http://ec.europa.eu/eures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15427-4BA4-4B1F-8A97-56C1AF525225}" type="slidenum">
              <a:t>7</a:t>
            </a:fld>
          </a:p>
        </p:txBody>
      </p:sp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4028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EURES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 / 2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5" name=""/>
          <p:cNvSpPr/>
          <p:nvPr/>
        </p:nvSpPr>
        <p:spPr>
          <a:xfrm>
            <a:off x="4478400" y="3168720"/>
            <a:ext cx="1681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68240"/>
            <a:ext cx="7772400" cy="7484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36600" indent="0" algn="just">
              <a:lnSpc>
                <a:spcPct val="13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er la ricerca del lavoro in Europa offre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90480" indent="-233280" algn="just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Clr>
                <a:srgbClr val="000000"/>
              </a:buClr>
              <a:buFont typeface="Bitstream Vera Sans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banca dati con offerte di lavoro aggiornate in Europa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90480" indent="-233280" algn="just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Clr>
                <a:srgbClr val="000000"/>
              </a:buClr>
              <a:buFont typeface="Bitstream Vera Sans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possibilità di inserire il CV 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just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oltre si trovano sul sito informazioni su: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90480" indent="-233280" algn="just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Clr>
                <a:srgbClr val="000000"/>
              </a:buClr>
              <a:buFont typeface="Bitstream Vera Sans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andamento del mercato del lavoro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90480" indent="-233280" algn="just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Clr>
                <a:srgbClr val="000000"/>
              </a:buClr>
              <a:buFont typeface="Bitstream Vera Sans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tipendi e contratti, sistema sociale e sanitario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690480" indent="-233280" algn="just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Clr>
                <a:srgbClr val="000000"/>
              </a:buClr>
              <a:buFont typeface="Bitstream Vera Sans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ondizione e costo della vita,  la normativa per gli stranieri</a:t>
            </a:r>
            <a:endParaRPr b="1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42C89-3EA7-40F8-B138-2C6062B44F87}" type="slidenum">
              <a:t>8</a:t>
            </a:fld>
          </a:p>
        </p:txBody>
      </p:sp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4028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JOBCENTRE STATALE / 1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739520"/>
            <a:ext cx="7772400" cy="69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lnSpc>
                <a:spcPct val="95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Bitstream Vera Sans"/>
              <a:buChar char="•"/>
              <a:tabLst>
                <a:tab algn="l" pos="29052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Necessario essere residenti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290520" indent="-290520">
              <a:lnSpc>
                <a:spcPct val="95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Bitstream Vera Sans"/>
              <a:buChar char="•"/>
              <a:tabLst>
                <a:tab algn="l" pos="29052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resente su tutto il territorio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290520" indent="-290520">
              <a:lnSpc>
                <a:spcPct val="95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Bitstream Vera Sans"/>
              <a:buChar char="•"/>
              <a:tabLst>
                <a:tab algn="l" pos="29052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Consulenza sulle professioni, sbocchi lavorativi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290520" indent="-290520">
              <a:lnSpc>
                <a:spcPct val="95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Bitstream Vera Sans"/>
              <a:buChar char="•"/>
              <a:tabLst>
                <a:tab algn="l" pos="29052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Corsi sulla ricerca del lavoro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290520" indent="-290520">
              <a:lnSpc>
                <a:spcPct val="95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Bitstream Vera Sans"/>
              <a:buChar char="•"/>
              <a:tabLst>
                <a:tab algn="l" pos="29052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Colloca circa 60% delle persone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290520" indent="-290520">
              <a:lnSpc>
                <a:spcPct val="95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Bitstream Vera Sans"/>
              <a:buChar char="•"/>
              <a:tabLst>
                <a:tab algn="l" pos="29052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Scarse opportunità per laureati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299880" indent="0" algn="ctr">
              <a:lnSpc>
                <a:spcPct val="95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290520"/>
                <a:tab algn="l" pos="395280"/>
                <a:tab algn="l" pos="844560"/>
                <a:tab algn="l" pos="1293840"/>
                <a:tab algn="l" pos="1743120"/>
                <a:tab algn="l" pos="2192400"/>
                <a:tab algn="l" pos="2641680"/>
                <a:tab algn="l" pos="3090960"/>
                <a:tab algn="l" pos="3540240"/>
                <a:tab algn="l" pos="3989520"/>
                <a:tab algn="l" pos="4438800"/>
                <a:tab algn="l" pos="4888080"/>
                <a:tab algn="l" pos="5337000"/>
                <a:tab algn="l" pos="5786280"/>
                <a:tab algn="l" pos="6235560"/>
                <a:tab algn="l" pos="6684840"/>
                <a:tab algn="l" pos="7134120"/>
                <a:tab algn="l" pos="7583400"/>
                <a:tab algn="l" pos="8032680"/>
                <a:tab algn="l" pos="8481960"/>
                <a:tab algn="l" pos="8931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Bitstream Vera Sans"/>
              </a:rPr>
              <a:t>www.jobcentreplus.gov.uk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EED55-E479-4EF3-8ED6-1E2C1E03DB51}" type="slidenum">
              <a:t>9</a:t>
            </a:fld>
          </a:p>
        </p:txBody>
      </p:sp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ernd Faas</dc:creator>
  <dc:description/>
  <dc:language>en-US</dc:language>
  <cp:lastModifiedBy>Bernd Faas</cp:lastModifiedBy>
  <cp:lastPrinted>2014-10-16T00:25:21Z</cp:lastPrinted>
  <dcterms:modified xsi:type="dcterms:W3CDTF">2013-10-21T19:59:09Z</dcterms:modified>
  <cp:revision>0</cp:revision>
  <dc:subject/>
  <dc:title>Trovare lavoro nel Regno Unito</dc:title>
</cp:coreProperties>
</file>